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2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jpeg" ContentType="image/jpeg"/>
  <Override PartName="/ppt/media/image50.png" ContentType="image/png"/>
  <Override PartName="/ppt/media/image52.jpeg" ContentType="image/jpeg"/>
  <Override PartName="/ppt/media/image48.jpeg" ContentType="image/jpeg"/>
  <Override PartName="/ppt/media/image37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42.png" ContentType="image/png"/>
  <Override PartName="/ppt/media/image41.png" ContentType="image/png"/>
  <Override PartName="/ppt/media/image36.png" ContentType="image/png"/>
  <Override PartName="/ppt/media/image33.png" ContentType="image/png"/>
  <Override PartName="/ppt/media/image56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7040" cy="530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46520" y="-360"/>
            <a:ext cx="2867040" cy="530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12040"/>
            <a:ext cx="2867040" cy="53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46520" y="10112040"/>
            <a:ext cx="2867040" cy="53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4092D-2BD4-4F17-BEFB-3C83B4B3AE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年で「手つかず」、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K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」、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 SR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志向」に分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179F-E1DE-478B-A497-AD521552DCBF}" type="slidenum">
              <a:rPr b="0" lang="en-GB" sz="1200" spc="-1" strike="noStrike">
                <a:solidFill>
                  <a:srgbClr val="000000"/>
                </a:solidFill>
                <a:latin typeface="Candara"/>
                <a:ea typeface="HGP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SR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発効によりヤードキャパシティに加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H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注目が拡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C4F6C-FBBA-4445-987A-60BDE2429E5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, social and governance (ESG)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8519E-76D5-4CBF-8DBC-45A90140C94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B54C3-4238-41AB-91F1-16F39766D42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6C100-DE1A-4731-8ED4-EA34F868C5A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1AC86-8574-48D3-8A4E-7A411D947E3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3E4EC-3BC6-4368-9CF0-E8DCFAC8625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039F7-2F33-4D0D-B9F6-92DF4CA0959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FB4F9-B375-4D05-8FFC-DF5B9D15D9A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1F94-F593-4B90-994C-BB88BEF0DAA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462E1-F52A-4533-B022-4FB3446B930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7E086-C198-44DC-BD2A-43FEA9292286}" type="slidenum">
              <a:rPr b="0" lang="en-GB" sz="1200" spc="-1" strike="noStrike">
                <a:solidFill>
                  <a:srgbClr val="000000"/>
                </a:solidFill>
                <a:latin typeface="Candara"/>
                <a:ea typeface="HGP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31800" y="5056200"/>
            <a:ext cx="5294160" cy="4789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批准国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um, Congo, Denmark, France, NL, Norway, Panama, 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早期批准見込国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nian, Finland, Germany, India, Japan, Ma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0E6F3-930F-49F8-8AF4-6117BF40503B}" type="slidenum">
              <a:rPr b="0" lang="en-GB" sz="1200" spc="-1" strike="noStrike">
                <a:solidFill>
                  <a:srgbClr val="000000"/>
                </a:solidFill>
                <a:latin typeface="Candara"/>
                <a:ea typeface="HGP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31800" y="5056200"/>
            <a:ext cx="529416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2E0CA-101D-4D99-8EC5-EDAAB9D21A0D}" type="slidenum">
              <a:rPr b="0" lang="en-GB" sz="1200" spc="-1" strike="noStrike">
                <a:solidFill>
                  <a:srgbClr val="000000"/>
                </a:solidFill>
                <a:latin typeface="Candara"/>
                <a:ea typeface="HGP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C2C5A-AFB7-47B8-B529-B3D731C9E8C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9CD9D-4A0D-40C5-9243-22FF6883EA91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3813B-7661-4761-9DED-71EF3BD42A48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FC38C-BA94-4951-813A-57BB3E4CF0F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81D07-2A94-45FF-B42E-DCDE1042856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E0716-CF59-4FC1-B924-27D2B8B0CEC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47640" y="80028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59880" y="5056200"/>
            <a:ext cx="52945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4D89B-7953-4ED0-8129-1E766AB54CB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B4B34-6863-4485-90BB-8458FFD54E5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7BA95-8943-40C4-944F-42706AF1F36E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481B1-9247-4A4F-A1A9-DE9C04DB823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7680" y="1231920"/>
            <a:ext cx="4440240" cy="33321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62120" y="5055840"/>
            <a:ext cx="519264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スライド番号プレースホルダー 3"/>
          <p:cNvSpPr/>
          <p:nvPr/>
        </p:nvSpPr>
        <p:spPr>
          <a:xfrm>
            <a:off x="3746520" y="10112400"/>
            <a:ext cx="286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26612-457D-45F8-9001-317DD5D411C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CB6-E059-4B08-BC20-E28DA4C3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CE4-F367-49C9-AD3C-52BBA9E4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013-336C-443F-AFAA-F77A7BC4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6B8-8572-48FF-A89E-8A98D0CA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C2A1-26B5-4392-AF0C-5D8E34D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AF98-DA32-4207-B81F-CC8727C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1E2-2DB2-4B72-B998-C9C5E82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6E5-7740-44E5-AD0D-438D496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0DB9-AEAF-4522-8DF1-E8CBC91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4E2-7896-444D-BE71-507469FA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1130-7EB0-4A0F-B438-E26C4A8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8BE-AF5F-4194-82C7-EF9F59F8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C09-9EAD-4419-9AE4-CD11655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F5E-2740-49A4-9709-E7FE3B54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F0A-F8E1-422B-9398-A512362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2692-7054-4AC1-B240-7E3DA343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2671-37FB-426F-B982-5BFFD13F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479A-AED0-48AF-82B4-F96377E2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331F-289E-454B-A159-21A5A67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DF69-0871-46AA-A7E6-86A0DD7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D896-A902-4E39-9D48-10E03CF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735D-7731-4FC5-824B-25D3F33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E7B-5C7F-4A54-8D43-5FC65B59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E4C5-5239-4672-B390-36504D6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84DF-9217-491E-B962-275E8E66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43CF-9F51-442D-B9D5-982C1F3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50EF-8E9E-4575-89EB-A08D9AF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CB4C-50B5-4F4D-AB05-FB6A307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BA2D-6379-42DD-81B6-B40BC2C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67EE-80F2-4CD5-BDAD-7FE330ED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075-4477-4683-8529-95F522C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889-E810-4F0B-B9A3-B53D5D0A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E5C-3C1A-4464-B582-D980A3E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D92-74ED-4B44-A397-8110B6B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99D-35AD-4EA2-9182-249A070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CCF-7663-4E03-8E5F-891D060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800" spc="-1" strike="noStrike">
                <a:solidFill>
                  <a:srgbClr val="595959"/>
                </a:solidFill>
                <a:latin typeface="Gill Sans MT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5A645-94E3-4F0D-A813-B6B37F345061}" type="datetime">
              <a:rPr b="0" lang="ko-KR" sz="800" spc="-1" strike="noStrike">
                <a:solidFill>
                  <a:srgbClr val="595959"/>
                </a:solidFill>
                <a:latin typeface="Gill Sans MT"/>
                <a:ea typeface="Malgun Gothic"/>
              </a:rPr>
              <a:t>26年 7月 31日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1BE12-2335-473C-BA39-737B05D04961}" type="slidenum">
              <a: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Gill Sans MT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0D9A4-F895-44CC-9E42-EC303CAA0D8D}" type="datetime">
              <a:rPr b="0" lang="en-US" sz="800" spc="-1" strike="noStrike">
                <a:solidFill>
                  <a:srgbClr val="595959"/>
                </a:solidFill>
                <a:latin typeface="Gill Sans MT"/>
                <a:ea typeface="Malgun Gothic"/>
              </a:rPr>
              <a:t>07/31/26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A97CE-A7BD-4EB8-B8EA-4D0CAB589D0E}" type="slidenum">
              <a: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800" spc="-1" strike="noStrike">
                <a:solidFill>
                  <a:srgbClr val="595959"/>
                </a:solidFill>
                <a:latin typeface="Gill Sans MT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A21DF-9D9C-4EE0-8AFD-AE631C102F44}" type="datetime">
              <a:rPr b="0" lang="ko-KR" sz="800" spc="-1" strike="noStrike">
                <a:solidFill>
                  <a:srgbClr val="595959"/>
                </a:solidFill>
                <a:latin typeface="Gill Sans MT"/>
                <a:ea typeface="Malgun Gothic"/>
              </a:rPr>
              <a:t>26年 7月 31日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456A6-5895-432F-9D24-0226F66C3E18}" type="slidenum">
              <a:rPr b="0" lang="en-US" sz="800" spc="-1" strike="noStrike">
                <a:solidFill>
                  <a:srgbClr val="898989"/>
                </a:solidFill>
                <a:latin typeface="Gill Sans MT"/>
                <a:ea typeface="Malgun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1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31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485720"/>
            <a:ext cx="8640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 Light"/>
                <a:ea typeface="Malgun Gothic"/>
              </a:rPr>
              <a:t>JSA Country Repor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9280" y="54687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  <a:ea typeface="HGP明朝E"/>
              </a:rPr>
              <a:t>Japanese Shipowners’ Assoc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187280" y="4761000"/>
            <a:ext cx="6769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  <a:ea typeface="HGP明朝E"/>
              </a:rPr>
              <a:t>15 March 201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11280" y="2995560"/>
            <a:ext cx="7921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Malgun Gothic"/>
              </a:rPr>
              <a:t>OUR  JOURNEY TOWAR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Malgun Gothic"/>
              </a:rPr>
              <a:t>EARLY ENACTMENT OF HKC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Light"/>
                <a:ea typeface="Malgun Gothic"/>
              </a:rPr>
              <a:t>(MAY 2018</a:t>
            </a:r>
            <a:r>
              <a:rPr b="0" i="1" lang="ja-JP" sz="24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～ </a:t>
            </a:r>
            <a:r>
              <a:rPr b="0" i="1" lang="en-US" sz="24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AR 2019</a:t>
            </a:r>
            <a:r>
              <a:rPr b="0" i="1" lang="en-US" sz="2400" spc="-1" strike="noStrike">
                <a:solidFill>
                  <a:srgbClr val="000000"/>
                </a:solidFill>
                <a:latin typeface="Calibri Light"/>
                <a:ea typeface="Malgun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8741880" y="633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IMG_4542"/>
          <p:cNvPicPr/>
          <p:nvPr/>
        </p:nvPicPr>
        <p:blipFill>
          <a:blip r:embed="rId1"/>
          <a:stretch/>
        </p:blipFill>
        <p:spPr>
          <a:xfrm>
            <a:off x="50760" y="1201680"/>
            <a:ext cx="2901960" cy="219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IMG_4543"/>
          <p:cNvPicPr/>
          <p:nvPr/>
        </p:nvPicPr>
        <p:blipFill>
          <a:blip r:embed="rId2"/>
          <a:stretch/>
        </p:blipFill>
        <p:spPr>
          <a:xfrm>
            <a:off x="3075120" y="1201680"/>
            <a:ext cx="2900160" cy="219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IMG_4550"/>
          <p:cNvPicPr/>
          <p:nvPr/>
        </p:nvPicPr>
        <p:blipFill>
          <a:blip r:embed="rId3"/>
          <a:stretch/>
        </p:blipFill>
        <p:spPr>
          <a:xfrm>
            <a:off x="6134040" y="1203480"/>
            <a:ext cx="2924280" cy="2198520"/>
          </a:xfrm>
          <a:prstGeom prst="rect">
            <a:avLst/>
          </a:prstGeom>
          <a:ln w="0">
            <a:noFill/>
          </a:ln>
        </p:spPr>
      </p:pic>
      <p:sp>
        <p:nvSpPr>
          <p:cNvPr id="202" name="正方形/長方形 21"/>
          <p:cNvSpPr/>
          <p:nvPr/>
        </p:nvSpPr>
        <p:spPr>
          <a:xfrm>
            <a:off x="34920" y="340200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led Storage Are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Oily Block/Machinery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正方形/長方形 22"/>
          <p:cNvSpPr/>
          <p:nvPr/>
        </p:nvSpPr>
        <p:spPr>
          <a:xfrm>
            <a:off x="34920" y="6207120"/>
            <a:ext cx="286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Health Unit--three facilities a day with doctor/pharmacist/Medical analys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正方形/長方形 23"/>
          <p:cNvSpPr/>
          <p:nvPr/>
        </p:nvSpPr>
        <p:spPr>
          <a:xfrm>
            <a:off x="6146640" y="3494160"/>
            <a:ext cx="26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 Sign Board (Safe-for-Entry)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5" name="図 4" descr="\\192.168.1.11\共有\6.海務部\海務部(海工務)\4-1. シップリサイクル\インド関係\JSAインド訪問\201901インド訪問\201901インド写真\20190117_GEPIL\IMG_4694.JPG"/>
          <p:cNvPicPr/>
          <p:nvPr/>
        </p:nvPicPr>
        <p:blipFill>
          <a:blip r:embed="rId4"/>
          <a:stretch/>
        </p:blipFill>
        <p:spPr>
          <a:xfrm>
            <a:off x="6229440" y="3998880"/>
            <a:ext cx="2828880" cy="2124000"/>
          </a:xfrm>
          <a:prstGeom prst="rect">
            <a:avLst/>
          </a:prstGeom>
          <a:ln w="0">
            <a:noFill/>
          </a:ln>
        </p:spPr>
      </p:pic>
      <p:pic>
        <p:nvPicPr>
          <p:cNvPr id="206" name="図 7" descr="\\192.168.1.11\共有\6.海務部\海務部(海工務)\4-1. シップリサイクル\インド関係\JSAインド訪問\201901インド訪問\201901インド写真\20190117_LABOUR HOUSING COLONY\IMG_4534.JPG"/>
          <p:cNvPicPr/>
          <p:nvPr/>
        </p:nvPicPr>
        <p:blipFill>
          <a:blip r:embed="rId5"/>
          <a:stretch/>
        </p:blipFill>
        <p:spPr>
          <a:xfrm>
            <a:off x="3149640" y="3998880"/>
            <a:ext cx="2835360" cy="2138400"/>
          </a:xfrm>
          <a:prstGeom prst="rect">
            <a:avLst/>
          </a:prstGeom>
          <a:ln w="0">
            <a:noFill/>
          </a:ln>
        </p:spPr>
      </p:pic>
      <p:pic>
        <p:nvPicPr>
          <p:cNvPr id="207" name="図 9" descr="\\192.168.1.11\共有\6.海務部\海務部(海工務)\4-1. シップリサイクル\インド関係\JSAインド訪問\201901インド訪問\201901インド写真\20190117_MEDICAL HEALTH UNIT-VAN, ALANG VISIT\IMG_4665.JPG"/>
          <p:cNvPicPr/>
          <p:nvPr/>
        </p:nvPicPr>
        <p:blipFill>
          <a:blip r:embed="rId6"/>
          <a:stretch/>
        </p:blipFill>
        <p:spPr>
          <a:xfrm>
            <a:off x="34920" y="3998880"/>
            <a:ext cx="2933640" cy="2200320"/>
          </a:xfrm>
          <a:prstGeom prst="rect">
            <a:avLst/>
          </a:prstGeom>
          <a:ln w="0">
            <a:noFill/>
          </a:ln>
        </p:spPr>
      </p:pic>
      <p:sp>
        <p:nvSpPr>
          <p:cNvPr id="208" name="正方形/長方形 27"/>
          <p:cNvSpPr/>
          <p:nvPr/>
        </p:nvSpPr>
        <p:spPr>
          <a:xfrm>
            <a:off x="3149640" y="6207120"/>
            <a:ext cx="283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rmitory Type Housing Facility for 1,008 workers by GMB/SRI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正方形/長方形 28"/>
          <p:cNvSpPr/>
          <p:nvPr/>
        </p:nvSpPr>
        <p:spPr>
          <a:xfrm>
            <a:off x="6199200" y="620712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inerator at Alang TSDF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正方形/長方形 29"/>
          <p:cNvSpPr/>
          <p:nvPr/>
        </p:nvSpPr>
        <p:spPr>
          <a:xfrm>
            <a:off x="3189240" y="349416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 Cutting Workers with PP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正方形/長方形 14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コンテンツ プレースホルダー 2"/>
          <p:cNvSpPr/>
          <p:nvPr/>
        </p:nvSpPr>
        <p:spPr>
          <a:xfrm>
            <a:off x="179280" y="30312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India on 14-18 January 2019 – Level up year-by-year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3" name="Picture 2" descr="jsa"/>
          <p:cNvPicPr/>
          <p:nvPr/>
        </p:nvPicPr>
        <p:blipFill>
          <a:blip r:embed="rId7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471600" y="1063800"/>
            <a:ext cx="763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P明朝E"/>
              </a:rPr>
              <a:t>Increased number of HKC-compliant yards in Ind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E"/>
              </a:rPr>
              <a:t>（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Zero Southwest Asia yards in EU Li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E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矢印: 右 1"/>
          <p:cNvSpPr/>
          <p:nvPr/>
        </p:nvSpPr>
        <p:spPr>
          <a:xfrm>
            <a:off x="3765600" y="2560680"/>
            <a:ext cx="1042920" cy="576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dd7e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867280" y="2487600"/>
            <a:ext cx="1808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HGP明朝E"/>
              </a:rPr>
              <a:t>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P明朝E"/>
              </a:rPr>
              <a:t> yard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フローチャート: 処理 13"/>
          <p:cNvSpPr/>
          <p:nvPr/>
        </p:nvSpPr>
        <p:spPr>
          <a:xfrm>
            <a:off x="1344600" y="2008080"/>
            <a:ext cx="1297080" cy="497160"/>
          </a:xfrm>
          <a:prstGeom prst="flowChartProcess">
            <a:avLst/>
          </a:prstGeom>
          <a:solidFill>
            <a:srgbClr val="5b9bd5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メイリオ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フローチャート: 処理 14"/>
          <p:cNvSpPr/>
          <p:nvPr/>
        </p:nvSpPr>
        <p:spPr>
          <a:xfrm>
            <a:off x="5778360" y="2008080"/>
            <a:ext cx="1297080" cy="497160"/>
          </a:xfrm>
          <a:prstGeom prst="flowChartProcess">
            <a:avLst/>
          </a:prstGeom>
          <a:solidFill>
            <a:srgbClr val="5b9bd5"/>
          </a:solidFill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メイリオ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22360" y="2581200"/>
            <a:ext cx="1230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HGP明朝E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テキスト ボックス 10"/>
          <p:cNvSpPr/>
          <p:nvPr/>
        </p:nvSpPr>
        <p:spPr>
          <a:xfrm>
            <a:off x="471600" y="528156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Main engine left on grou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628560" y="3130560"/>
            <a:ext cx="2827440" cy="2104920"/>
            <a:chOff x="628560" y="3130560"/>
            <a:chExt cx="2827440" cy="2104920"/>
          </a:xfrm>
        </p:grpSpPr>
        <p:pic>
          <p:nvPicPr>
            <p:cNvPr id="223" name="Picture 3" descr="DSC00191"/>
            <p:cNvPicPr/>
            <p:nvPr/>
          </p:nvPicPr>
          <p:blipFill>
            <a:blip r:embed="rId1"/>
            <a:stretch/>
          </p:blipFill>
          <p:spPr>
            <a:xfrm>
              <a:off x="648000" y="3130560"/>
              <a:ext cx="2808000" cy="2104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24" name="テキスト ボックス 13"/>
            <p:cNvSpPr/>
            <p:nvPr/>
          </p:nvSpPr>
          <p:spPr>
            <a:xfrm>
              <a:off x="628560" y="315252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E"/>
                </a:rPr>
                <a:t>Jan 201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5" name="テキスト ボックス 11"/>
          <p:cNvSpPr/>
          <p:nvPr/>
        </p:nvSpPr>
        <p:spPr>
          <a:xfrm>
            <a:off x="4827600" y="5235480"/>
            <a:ext cx="35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Impermeable floor wa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provid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6" name="Group 20"/>
          <p:cNvGrpSpPr/>
          <p:nvPr/>
        </p:nvGrpSpPr>
        <p:grpSpPr>
          <a:xfrm>
            <a:off x="5181480" y="3117960"/>
            <a:ext cx="2872080" cy="2104920"/>
            <a:chOff x="5181480" y="3117960"/>
            <a:chExt cx="2872080" cy="2104920"/>
          </a:xfrm>
        </p:grpSpPr>
        <p:pic>
          <p:nvPicPr>
            <p:cNvPr id="227" name="図 6" descr=""/>
            <p:cNvPicPr/>
            <p:nvPr/>
          </p:nvPicPr>
          <p:blipFill>
            <a:blip r:embed="rId2"/>
            <a:stretch/>
          </p:blipFill>
          <p:spPr>
            <a:xfrm>
              <a:off x="5181480" y="3117960"/>
              <a:ext cx="2872080" cy="2104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28" name="テキスト ボックス 12"/>
            <p:cNvSpPr/>
            <p:nvPr/>
          </p:nvSpPr>
          <p:spPr>
            <a:xfrm>
              <a:off x="5199840" y="3136320"/>
              <a:ext cx="16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GP明朝E"/>
                </a:rPr>
                <a:t>Jan 2017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9" name="テキスト ボックス 9"/>
          <p:cNvSpPr/>
          <p:nvPr/>
        </p:nvSpPr>
        <p:spPr>
          <a:xfrm>
            <a:off x="7486560" y="23050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明朝E"/>
              </a:rPr>
              <a:t>As of Mar. 201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3637440" y="39146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Upgrade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正方形/長方形 20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正方形/長方形 3"/>
          <p:cNvSpPr/>
          <p:nvPr/>
        </p:nvSpPr>
        <p:spPr>
          <a:xfrm>
            <a:off x="66600" y="297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Preparations for HKC are making steady progres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Picture 2" descr="jsa"/>
          <p:cNvPicPr/>
          <p:nvPr/>
        </p:nvPicPr>
        <p:blipFill>
          <a:blip r:embed="rId3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34" name="正方形/長方形 24"/>
          <p:cNvSpPr/>
          <p:nvPr/>
        </p:nvSpPr>
        <p:spPr>
          <a:xfrm>
            <a:off x="4538520" y="5913360"/>
            <a:ext cx="41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Current situation is…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テキスト ボックス 5"/>
          <p:cNvSpPr/>
          <p:nvPr/>
        </p:nvSpPr>
        <p:spPr>
          <a:xfrm>
            <a:off x="6307200" y="6364440"/>
            <a:ext cx="2232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Alang Short Vide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8697600" y="636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8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39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TradeWinds Forum in Hong Kong on 5-6 March 201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正方形/長方形 12"/>
          <p:cNvSpPr/>
          <p:nvPr/>
        </p:nvSpPr>
        <p:spPr>
          <a:xfrm>
            <a:off x="5513400" y="4886280"/>
            <a:ext cx="302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. Tomoda, JSA SRC Chairman, participated in the panel discussion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正方形/長方形 12"/>
          <p:cNvSpPr/>
          <p:nvPr/>
        </p:nvSpPr>
        <p:spPr>
          <a:xfrm>
            <a:off x="430200" y="4886280"/>
            <a:ext cx="409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. Ron Huang, ASA SRC Chairman, made presentation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正方形/長方形 12"/>
          <p:cNvSpPr/>
          <p:nvPr/>
        </p:nvSpPr>
        <p:spPr>
          <a:xfrm>
            <a:off x="146160" y="1166760"/>
            <a:ext cx="8818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eak out our voices to ensure early enactment of HKC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ith First Priority.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テキスト ボックス 1"/>
          <p:cNvSpPr/>
          <p:nvPr/>
        </p:nvSpPr>
        <p:spPr>
          <a:xfrm>
            <a:off x="146160" y="5433840"/>
            <a:ext cx="89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arkable Point at the Forum is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p in Argument affected by EU SR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テキスト ボックス 2"/>
          <p:cNvSpPr/>
          <p:nvPr/>
        </p:nvSpPr>
        <p:spPr>
          <a:xfrm>
            <a:off x="237960" y="5803920"/>
            <a:ext cx="890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KC Supporter </a:t>
            </a:r>
            <a:r>
              <a:rPr b="1" i="1" lang="ja-JP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⇔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dditional Requirements by Environment First Group</a:t>
            </a:r>
            <a:r>
              <a:rPr b="1" i="1" lang="ja-JP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5" name="図 3" descr=""/>
          <p:cNvPicPr/>
          <p:nvPr/>
        </p:nvPicPr>
        <p:blipFill>
          <a:blip r:embed="rId2"/>
          <a:stretch/>
        </p:blipFill>
        <p:spPr>
          <a:xfrm>
            <a:off x="4765680" y="2216160"/>
            <a:ext cx="3987720" cy="2657520"/>
          </a:xfrm>
          <a:prstGeom prst="rect">
            <a:avLst/>
          </a:prstGeom>
          <a:ln w="0">
            <a:noFill/>
          </a:ln>
        </p:spPr>
      </p:pic>
      <p:pic>
        <p:nvPicPr>
          <p:cNvPr id="246" name="図 4" descr=""/>
          <p:cNvPicPr/>
          <p:nvPr/>
        </p:nvPicPr>
        <p:blipFill>
          <a:blip r:embed="rId3"/>
          <a:stretch/>
        </p:blipFill>
        <p:spPr>
          <a:xfrm>
            <a:off x="430200" y="2216160"/>
            <a:ext cx="3954600" cy="2635200"/>
          </a:xfrm>
          <a:prstGeom prst="rect">
            <a:avLst/>
          </a:prstGeom>
          <a:ln w="0">
            <a:noFill/>
          </a:ln>
        </p:spPr>
      </p:pic>
      <p:sp>
        <p:nvSpPr>
          <p:cNvPr id="247" name="テキスト ボックス 3"/>
          <p:cNvSpPr/>
          <p:nvPr/>
        </p:nvSpPr>
        <p:spPr>
          <a:xfrm>
            <a:off x="76320" y="6365880"/>
            <a:ext cx="89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he Forum, JG Announced JG/IMO Seminar on 10 May to which ASA is invite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正方形/長方形 5"/>
          <p:cNvSpPr/>
          <p:nvPr/>
        </p:nvSpPr>
        <p:spPr>
          <a:xfrm>
            <a:off x="108000" y="1093680"/>
            <a:ext cx="86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P明朝E"/>
              </a:rPr>
              <a:t>&lt;Positive Aspect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Could be one of the Boosters to hasten enactment of HK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P明朝E"/>
              </a:rPr>
              <a:t>&lt;Negative Aspect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P明朝E"/>
              </a:rPr>
              <a:t>Possible pressure for huge amount of investment as over spe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P明朝E"/>
              </a:rPr>
              <a:t>Lack of balance in distribution of certified yar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P明朝E"/>
              </a:rPr>
              <a:t>C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discourage motivation for improvement by too high a standa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正方形/長方形 13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1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52" name="コンテンツ プレースホルダー 2"/>
          <p:cNvSpPr/>
          <p:nvPr/>
        </p:nvSpPr>
        <p:spPr>
          <a:xfrm>
            <a:off x="174600" y="104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EU SRR – How to deal with it through pros/cons check?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正方形/長方形 5"/>
          <p:cNvSpPr/>
          <p:nvPr/>
        </p:nvSpPr>
        <p:spPr>
          <a:xfrm>
            <a:off x="0" y="3728880"/>
            <a:ext cx="905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E"/>
              </a:rPr>
              <a:t>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We CANNOT Disregard “global trends of pro-environment.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E"/>
              </a:rPr>
              <a:t>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Companies recognizing CSR/ESG are increasingly attractive to stakehold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明朝E"/>
              </a:rPr>
              <a:t>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CSR/ESG is business-critical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(*) Environmental, Social and Governanc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テキスト ボックス 1"/>
          <p:cNvSpPr/>
          <p:nvPr/>
        </p:nvSpPr>
        <p:spPr>
          <a:xfrm>
            <a:off x="108000" y="3349800"/>
            <a:ext cx="36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*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going mainstre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上下矢印 3"/>
          <p:cNvSpPr/>
          <p:nvPr/>
        </p:nvSpPr>
        <p:spPr>
          <a:xfrm>
            <a:off x="4138560" y="3135240"/>
            <a:ext cx="387360" cy="4906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下矢印 4"/>
          <p:cNvSpPr/>
          <p:nvPr/>
        </p:nvSpPr>
        <p:spPr>
          <a:xfrm>
            <a:off x="4073400" y="4897440"/>
            <a:ext cx="519120" cy="37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正方形/長方形 5"/>
          <p:cNvSpPr/>
          <p:nvPr/>
        </p:nvSpPr>
        <p:spPr>
          <a:xfrm>
            <a:off x="108000" y="5381640"/>
            <a:ext cx="843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  <a:ea typeface="HGP明朝E"/>
              </a:rPr>
              <a:t>Realistic Way</a:t>
            </a:r>
            <a:r>
              <a:rPr b="1" i="1" lang="ja-JP" sz="2000" spc="-1" strike="noStrike" u="sng">
                <a:solidFill>
                  <a:srgbClr val="ff0000"/>
                </a:solidFill>
                <a:uFillTx/>
                <a:latin typeface="Arial"/>
                <a:ea typeface="HGP明朝E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  <a:ea typeface="HGP明朝E"/>
              </a:rPr>
              <a:t>– HKC –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Top Priority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Yard Upgrade to HKC-compliant level Global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Further upgrading over HKC-compliant level should be considered at later st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正方形/長方形 3"/>
          <p:cNvSpPr/>
          <p:nvPr/>
        </p:nvSpPr>
        <p:spPr>
          <a:xfrm>
            <a:off x="0" y="836640"/>
            <a:ext cx="9144000" cy="5259240"/>
          </a:xfrm>
          <a:prstGeom prst="rect">
            <a:avLst/>
          </a:prstGeom>
          <a:gradFill rotWithShape="0">
            <a:gsLst>
              <a:gs pos="0">
                <a:srgbClr val="1f4e79"/>
              </a:gs>
              <a:gs pos="100000">
                <a:srgbClr val="2e75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テキスト ボックス 4"/>
          <p:cNvSpPr/>
          <p:nvPr/>
        </p:nvSpPr>
        <p:spPr>
          <a:xfrm>
            <a:off x="1044720" y="293544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 Back to Origin!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1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4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65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Why We Need HKC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6" name="図 5" descr=""/>
          <p:cNvPicPr/>
          <p:nvPr/>
        </p:nvPicPr>
        <p:blipFill>
          <a:blip r:embed="rId2"/>
          <a:stretch/>
        </p:blipFill>
        <p:spPr>
          <a:xfrm>
            <a:off x="958680" y="1484280"/>
            <a:ext cx="7226640" cy="4842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9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Why We Need HKC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正方形/長方形 6"/>
          <p:cNvSpPr/>
          <p:nvPr/>
        </p:nvSpPr>
        <p:spPr>
          <a:xfrm>
            <a:off x="1042920" y="220500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Option 1 : No Ru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Option 2 : EU SR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Option 3 : HK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Which is Bes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図 32" descr=""/>
          <p:cNvPicPr/>
          <p:nvPr/>
        </p:nvPicPr>
        <p:blipFill>
          <a:blip r:embed="rId1"/>
          <a:stretch/>
        </p:blipFill>
        <p:spPr>
          <a:xfrm>
            <a:off x="208080" y="2330280"/>
            <a:ext cx="4860720" cy="3845160"/>
          </a:xfrm>
          <a:prstGeom prst="rect">
            <a:avLst/>
          </a:prstGeom>
          <a:ln w="0">
            <a:noFill/>
          </a:ln>
        </p:spPr>
      </p:pic>
      <p:sp>
        <p:nvSpPr>
          <p:cNvPr id="274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5" name="Picture 2" descr="jsa"/>
          <p:cNvPicPr/>
          <p:nvPr/>
        </p:nvPicPr>
        <p:blipFill>
          <a:blip r:embed="rId2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276" name="角丸四角形 11"/>
          <p:cNvSpPr/>
          <p:nvPr/>
        </p:nvSpPr>
        <p:spPr>
          <a:xfrm>
            <a:off x="239760" y="1208160"/>
            <a:ext cx="8653320" cy="90000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Value to Our Business by Promo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al Protection – No chance to justify Option 1 (No ru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コンテンツ プレースホルダー 2"/>
          <p:cNvSpPr/>
          <p:nvPr/>
        </p:nvSpPr>
        <p:spPr>
          <a:xfrm>
            <a:off x="5478480" y="3611520"/>
            <a:ext cx="312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游ゴシック"/>
              </a:rPr>
              <a:t>Sustainable Development Goals (SDGs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78" name="グループ化 8"/>
          <p:cNvGrpSpPr/>
          <p:nvPr/>
        </p:nvGrpSpPr>
        <p:grpSpPr>
          <a:xfrm>
            <a:off x="641520" y="2687760"/>
            <a:ext cx="4933800" cy="3297240"/>
            <a:chOff x="641520" y="2687760"/>
            <a:chExt cx="4933800" cy="3297240"/>
          </a:xfrm>
        </p:grpSpPr>
        <p:sp>
          <p:nvSpPr>
            <p:cNvPr id="279" name="テキスト ボックス 1"/>
            <p:cNvSpPr/>
            <p:nvPr/>
          </p:nvSpPr>
          <p:spPr>
            <a:xfrm>
              <a:off x="641520" y="3227760"/>
              <a:ext cx="61992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Air pollution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0" name="テキスト ボックス 13"/>
            <p:cNvSpPr/>
            <p:nvPr/>
          </p:nvSpPr>
          <p:spPr>
            <a:xfrm>
              <a:off x="650160" y="3382560"/>
              <a:ext cx="61128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etter engines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1" name="テキスト ボックス 14"/>
            <p:cNvSpPr/>
            <p:nvPr/>
          </p:nvSpPr>
          <p:spPr>
            <a:xfrm>
              <a:off x="650160" y="3506040"/>
              <a:ext cx="45180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etter fuel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2" name="テキスト ボックス 16"/>
            <p:cNvSpPr/>
            <p:nvPr/>
          </p:nvSpPr>
          <p:spPr>
            <a:xfrm>
              <a:off x="2354400" y="2687760"/>
              <a:ext cx="69624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Climate change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3" name="テキスト ボックス 17"/>
            <p:cNvSpPr/>
            <p:nvPr/>
          </p:nvSpPr>
          <p:spPr>
            <a:xfrm>
              <a:off x="3970440" y="3058920"/>
              <a:ext cx="78228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Resource recycling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4" name="テキスト ボックス 18"/>
            <p:cNvSpPr/>
            <p:nvPr/>
          </p:nvSpPr>
          <p:spPr>
            <a:xfrm>
              <a:off x="879480" y="5370120"/>
              <a:ext cx="66708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Marine pollution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5" name="テキスト ボックス 19"/>
            <p:cNvSpPr/>
            <p:nvPr/>
          </p:nvSpPr>
          <p:spPr>
            <a:xfrm>
              <a:off x="3815640" y="5446440"/>
              <a:ext cx="797400" cy="163800"/>
            </a:xfrm>
            <a:prstGeom prst="rect">
              <a:avLst/>
            </a:prstGeom>
            <a:solidFill>
              <a:srgbClr val="d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Bio-diversity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6" name="テキスト ボックス 26"/>
            <p:cNvSpPr/>
            <p:nvPr/>
          </p:nvSpPr>
          <p:spPr>
            <a:xfrm>
              <a:off x="1102320" y="3711240"/>
              <a:ext cx="494280" cy="43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SOx, NOx, </a:t>
              </a:r>
              <a:endParaRPr b="0" lang="en-US" sz="8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PM…</a:t>
              </a:r>
              <a:endParaRPr b="0" lang="en-US" sz="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7" name="テキスト ボックス 27"/>
            <p:cNvSpPr/>
            <p:nvPr/>
          </p:nvSpPr>
          <p:spPr>
            <a:xfrm>
              <a:off x="2407320" y="3419280"/>
              <a:ext cx="5126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Greenhouse</a:t>
              </a:r>
              <a:endParaRPr b="0" lang="en-US" sz="7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gas</a:t>
              </a:r>
              <a:endParaRPr b="0" lang="en-US" sz="7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8" name="テキスト ボックス 29"/>
            <p:cNvSpPr/>
            <p:nvPr/>
          </p:nvSpPr>
          <p:spPr>
            <a:xfrm>
              <a:off x="3628800" y="3648240"/>
              <a:ext cx="58680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Scraps and hazardous materials </a:t>
              </a:r>
              <a:endParaRPr b="0" lang="en-US" sz="7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5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(Breaking/recycling vessels)</a:t>
              </a:r>
              <a:endParaRPr b="0" lang="en-US" sz="5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9" name="テキスト ボックス 30"/>
            <p:cNvSpPr/>
            <p:nvPr/>
          </p:nvSpPr>
          <p:spPr>
            <a:xfrm>
              <a:off x="1719360" y="5535720"/>
              <a:ext cx="311400" cy="1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Oil…</a:t>
              </a:r>
              <a:endParaRPr b="0" lang="en-US" sz="7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0" name="テキスト ボックス 31"/>
            <p:cNvSpPr/>
            <p:nvPr/>
          </p:nvSpPr>
          <p:spPr>
            <a:xfrm>
              <a:off x="3075480" y="5459400"/>
              <a:ext cx="692640" cy="3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Invasive species</a:t>
              </a:r>
              <a:endParaRPr b="0" lang="en-US" sz="7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500" spc="-1" strike="noStrike">
                  <a:solidFill>
                    <a:srgbClr val="035dac"/>
                  </a:solidFill>
                  <a:latin typeface="Arial"/>
                  <a:ea typeface="ＭＳ Ｐゴシック"/>
                </a:rPr>
                <a:t>(inside ballast water) </a:t>
              </a:r>
              <a:endParaRPr b="0" lang="en-US" sz="5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500" spc="-1" strike="noStrike">
                  <a:solidFill>
                    <a:srgbClr val="035dac"/>
                  </a:solidFill>
                  <a:latin typeface="Gill Sans MT"/>
                  <a:ea typeface="ＭＳ Ｐゴシック"/>
                </a:rPr>
                <a:t>                    </a:t>
              </a:r>
              <a:endParaRPr b="0" lang="en-US" sz="5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291" name="図 2" descr=""/>
            <p:cNvPicPr/>
            <p:nvPr/>
          </p:nvPicPr>
          <p:blipFill>
            <a:blip r:embed="rId3"/>
            <a:stretch/>
          </p:blipFill>
          <p:spPr>
            <a:xfrm>
              <a:off x="4159440" y="3227760"/>
              <a:ext cx="593280" cy="3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テキスト ボックス 20"/>
            <p:cNvSpPr/>
            <p:nvPr/>
          </p:nvSpPr>
          <p:spPr>
            <a:xfrm>
              <a:off x="4145400" y="3259080"/>
              <a:ext cx="127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ycling decommissioned vessels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3" name="テキスト ボックス 21"/>
            <p:cNvSpPr/>
            <p:nvPr/>
          </p:nvSpPr>
          <p:spPr>
            <a:xfrm>
              <a:off x="4144680" y="3351960"/>
              <a:ext cx="143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tecting environment and safety while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reaking ships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294" name="図 3" descr=""/>
            <p:cNvPicPr/>
            <p:nvPr/>
          </p:nvPicPr>
          <p:blipFill>
            <a:blip r:embed="rId4"/>
            <a:stretch/>
          </p:blipFill>
          <p:spPr>
            <a:xfrm>
              <a:off x="2529360" y="2863080"/>
              <a:ext cx="433440" cy="23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テキスト ボックス 15"/>
            <p:cNvSpPr/>
            <p:nvPr/>
          </p:nvSpPr>
          <p:spPr>
            <a:xfrm>
              <a:off x="2493000" y="2849040"/>
              <a:ext cx="443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etter fuel 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fficiency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296" name="図 4" descr=""/>
            <p:cNvPicPr/>
            <p:nvPr/>
          </p:nvPicPr>
          <p:blipFill>
            <a:blip r:embed="rId5"/>
            <a:stretch/>
          </p:blipFill>
          <p:spPr>
            <a:xfrm>
              <a:off x="3942000" y="5572080"/>
              <a:ext cx="67104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テキスト ボックス 25"/>
            <p:cNvSpPr/>
            <p:nvPr/>
          </p:nvSpPr>
          <p:spPr>
            <a:xfrm>
              <a:off x="3918960" y="5638320"/>
              <a:ext cx="8737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venting cross-border movement of invasive species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298" name="図 6" descr=""/>
            <p:cNvPicPr/>
            <p:nvPr/>
          </p:nvPicPr>
          <p:blipFill>
            <a:blip r:embed="rId6"/>
            <a:stretch/>
          </p:blipFill>
          <p:spPr>
            <a:xfrm>
              <a:off x="835560" y="5542920"/>
              <a:ext cx="6555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図 7" descr=""/>
            <p:cNvPicPr/>
            <p:nvPr/>
          </p:nvPicPr>
          <p:blipFill>
            <a:blip r:embed="rId7"/>
            <a:stretch/>
          </p:blipFill>
          <p:spPr>
            <a:xfrm>
              <a:off x="1101960" y="5757480"/>
              <a:ext cx="438120" cy="1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テキスト ボックス 23"/>
            <p:cNvSpPr/>
            <p:nvPr/>
          </p:nvSpPr>
          <p:spPr>
            <a:xfrm>
              <a:off x="811440" y="5801040"/>
              <a:ext cx="8802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trolling waste water 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d other waste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01" name="テキスト ボックス 24"/>
            <p:cNvSpPr/>
            <p:nvPr/>
          </p:nvSpPr>
          <p:spPr>
            <a:xfrm>
              <a:off x="812880" y="5520960"/>
              <a:ext cx="8514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venting oil spills, 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nimizing their impact</a:t>
              </a:r>
              <a:endParaRPr b="0" lang="en-US" sz="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02" name="図 22" descr=""/>
          <p:cNvPicPr/>
          <p:nvPr/>
        </p:nvPicPr>
        <p:blipFill>
          <a:blip r:embed="rId8"/>
          <a:stretch/>
        </p:blipFill>
        <p:spPr>
          <a:xfrm>
            <a:off x="5267160" y="4124160"/>
            <a:ext cx="3808440" cy="1873440"/>
          </a:xfrm>
          <a:prstGeom prst="rect">
            <a:avLst/>
          </a:prstGeom>
          <a:ln w="0">
            <a:noFill/>
          </a:ln>
        </p:spPr>
      </p:pic>
      <p:sp>
        <p:nvSpPr>
          <p:cNvPr id="303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Why We Need HKC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07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Why We Need HKC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正方形/長方形 6"/>
          <p:cNvSpPr/>
          <p:nvPr/>
        </p:nvSpPr>
        <p:spPr>
          <a:xfrm>
            <a:off x="893880" y="2276640"/>
            <a:ext cx="69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We Strongly Believe HKC is the Only Avai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Instrument for Green Ship Recycl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Globally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NO HKC  means NO GLOBAL RUL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EUSRR cannot work globally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1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12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Why We Need HKC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1042920" y="2205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 Global Rule Me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　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dless Demand from Stakehold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limited Risk for Reputation Da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 Level Playing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ver spec may become evidence of good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rporate value differential from oth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正方形/長方形 5"/>
          <p:cNvSpPr/>
          <p:nvPr/>
        </p:nvSpPr>
        <p:spPr>
          <a:xfrm>
            <a:off x="1063800" y="5732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Bad Effect on Our Business Environment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下矢印 1"/>
          <p:cNvSpPr/>
          <p:nvPr/>
        </p:nvSpPr>
        <p:spPr>
          <a:xfrm>
            <a:off x="4179960" y="4724280"/>
            <a:ext cx="7840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正方形/長方形 3"/>
          <p:cNvSpPr/>
          <p:nvPr/>
        </p:nvSpPr>
        <p:spPr>
          <a:xfrm>
            <a:off x="0" y="836640"/>
            <a:ext cx="9144000" cy="5259240"/>
          </a:xfrm>
          <a:prstGeom prst="rect">
            <a:avLst/>
          </a:prstGeom>
          <a:gradFill rotWithShape="0">
            <a:gsLst>
              <a:gs pos="0">
                <a:srgbClr val="1f4e79"/>
              </a:gs>
              <a:gs pos="100000">
                <a:srgbClr val="2e75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テキスト ボックス 4"/>
          <p:cNvSpPr/>
          <p:nvPr/>
        </p:nvSpPr>
        <p:spPr>
          <a:xfrm>
            <a:off x="1044720" y="293544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eing is Believing!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8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8741880" y="633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正方形/長方形 3"/>
          <p:cNvSpPr/>
          <p:nvPr/>
        </p:nvSpPr>
        <p:spPr>
          <a:xfrm>
            <a:off x="0" y="836640"/>
            <a:ext cx="9144000" cy="5259240"/>
          </a:xfrm>
          <a:prstGeom prst="rect">
            <a:avLst/>
          </a:prstGeom>
          <a:gradFill rotWithShape="0">
            <a:gsLst>
              <a:gs pos="0">
                <a:srgbClr val="1f4e79"/>
              </a:gs>
              <a:gs pos="100000">
                <a:srgbClr val="2e75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テキスト ボックス 4"/>
          <p:cNvSpPr/>
          <p:nvPr/>
        </p:nvSpPr>
        <p:spPr>
          <a:xfrm>
            <a:off x="1044720" y="293544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me is Now!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Diagram 3" descr=""/>
          <p:cNvPicPr/>
          <p:nvPr/>
        </p:nvPicPr>
        <p:blipFill>
          <a:blip r:embed="rId1"/>
          <a:stretch/>
        </p:blipFill>
        <p:spPr>
          <a:xfrm>
            <a:off x="969840" y="1414440"/>
            <a:ext cx="7850160" cy="4608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3986280" y="1995480"/>
            <a:ext cx="588960" cy="7477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835200" y="5878440"/>
            <a:ext cx="16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Adoption o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HKC in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Oval 2"/>
          <p:cNvSpPr/>
          <p:nvPr/>
        </p:nvSpPr>
        <p:spPr>
          <a:xfrm>
            <a:off x="3830760" y="1900080"/>
            <a:ext cx="1041120" cy="10414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2147760" y="20527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We are here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2" descr="jsa"/>
          <p:cNvPicPr/>
          <p:nvPr/>
        </p:nvPicPr>
        <p:blipFill>
          <a:blip r:embed="rId3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28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Requirements for Enac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22 0.29537 C -0.27223 0.28449 -0.26841 0.27338 -0.26303 0.26296 C -0.26112 0.25903 -0.24566 0.22037 -0.23125 0.2081 C -0.22709 0.20463 -0.22257 0.20162 -0.21806 0.19907 C -0.19983 0.18773 -0.18855 0.18287 -0.16476 0.17593 C -0.15938 0.17454 -0.15417 0.17338 -0.14879 0.1713 C -0.13855 0.16782 -0.13178 0.16319 -0.12223 0.15764 C -0.09966 0.13194 -0.12726 0.16458 -0.10903 0.13935 C -0.10643 0.13611 -0.10296 0.13357 -0.10105 0.13032 C -0.09393 0.11921 -0.09237 0.11204 -0.0875 0.10069 C -0.08594 0.09676 -0.08455 0.09282 -0.08212 0.08889 C -0.07987 0.08495 -0.07691 0.08148 -0.07431 0.07755 C -0.0724 0.07454 -0.07118 0.0713 -0.06893 0.06829 C -0.06667 0.06574 -0.06407 0.06389 -0.06094 0.06157 C -0.05226 0.05509 -0.05087 0.05532 -0.04254 0.05 C -0.02848 0.0412 -0.03681 0.04444 -0.02396 0.04097 C -0.01563 0.0338 -0.01476 0.03449 -0.01077 0.025 C -0.00799 0.01921 -0.00834 0.01458 -0.00539 0.00903 C 0.00069 -0.00116 4.44444E-006 0.00532 4.44444E-006 -3.7037E-007 E">
                                      <p:cBhvr>
                                        <p:cTn id="6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330120" y="4041720"/>
            <a:ext cx="7494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contracting states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sta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Merchant fle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21.4%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of GT of the world’s merchant shipping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%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Maximum annual ship recycling volu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0.3%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of GT of the contracting states’ fleet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%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角丸四角形 21"/>
          <p:cNvSpPr/>
          <p:nvPr/>
        </p:nvSpPr>
        <p:spPr>
          <a:xfrm>
            <a:off x="330120" y="3341520"/>
            <a:ext cx="3240000" cy="446400"/>
          </a:xfrm>
          <a:prstGeom prst="roundRect">
            <a:avLst>
              <a:gd name="adj" fmla="val 4247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正方形/長方形 4"/>
          <p:cNvSpPr/>
          <p:nvPr/>
        </p:nvSpPr>
        <p:spPr>
          <a:xfrm>
            <a:off x="534960" y="3357720"/>
            <a:ext cx="28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Requirements for Ent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下矢印 3"/>
          <p:cNvSpPr/>
          <p:nvPr/>
        </p:nvSpPr>
        <p:spPr>
          <a:xfrm>
            <a:off x="7647120" y="3340080"/>
            <a:ext cx="1035000" cy="568440"/>
          </a:xfrm>
          <a:prstGeom prst="downArrow">
            <a:avLst>
              <a:gd name="adj1" fmla="val 50000"/>
              <a:gd name="adj2" fmla="val 6317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角丸四角形 7"/>
          <p:cNvSpPr/>
          <p:nvPr/>
        </p:nvSpPr>
        <p:spPr>
          <a:xfrm>
            <a:off x="7647120" y="4008600"/>
            <a:ext cx="1035000" cy="70164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角丸四角形 27"/>
          <p:cNvSpPr/>
          <p:nvPr/>
        </p:nvSpPr>
        <p:spPr>
          <a:xfrm>
            <a:off x="7740720" y="4973760"/>
            <a:ext cx="961920" cy="65880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角丸四角形 28"/>
          <p:cNvSpPr/>
          <p:nvPr/>
        </p:nvSpPr>
        <p:spPr>
          <a:xfrm>
            <a:off x="7715160" y="5727600"/>
            <a:ext cx="1009800" cy="71136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テキスト ボックス 8"/>
          <p:cNvSpPr/>
          <p:nvPr/>
        </p:nvSpPr>
        <p:spPr>
          <a:xfrm>
            <a:off x="7812000" y="38624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ndara"/>
                <a:ea typeface="HGP明朝E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テキスト ボックス 29"/>
          <p:cNvSpPr/>
          <p:nvPr/>
        </p:nvSpPr>
        <p:spPr>
          <a:xfrm>
            <a:off x="7667640" y="49528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  <a:ea typeface="HGP明朝E"/>
              </a:rPr>
              <a:t>30.8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テキスト ボックス 30"/>
          <p:cNvSpPr/>
          <p:nvPr/>
        </p:nvSpPr>
        <p:spPr>
          <a:xfrm>
            <a:off x="7810560" y="567072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  <a:ea typeface="HGP明朝E"/>
              </a:rPr>
              <a:t>3.5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正方形/長方形 26"/>
          <p:cNvSpPr/>
          <p:nvPr/>
        </p:nvSpPr>
        <p:spPr>
          <a:xfrm>
            <a:off x="330120" y="1071720"/>
            <a:ext cx="8921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Continued increase in number of countries ratifying HK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Ratified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To Be Ratified Soo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2" name="グループ化 18"/>
          <p:cNvGrpSpPr/>
          <p:nvPr/>
        </p:nvGrpSpPr>
        <p:grpSpPr>
          <a:xfrm>
            <a:off x="1692360" y="1539720"/>
            <a:ext cx="6791400" cy="520920"/>
            <a:chOff x="1692360" y="1539720"/>
            <a:chExt cx="6791400" cy="520920"/>
          </a:xfrm>
        </p:grpSpPr>
        <p:pic>
          <p:nvPicPr>
            <p:cNvPr id="343" name="図 4" descr=""/>
            <p:cNvPicPr/>
            <p:nvPr/>
          </p:nvPicPr>
          <p:blipFill>
            <a:blip r:embed="rId1"/>
            <a:stretch/>
          </p:blipFill>
          <p:spPr>
            <a:xfrm>
              <a:off x="2545200" y="153972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図 5" descr=""/>
            <p:cNvPicPr/>
            <p:nvPr/>
          </p:nvPicPr>
          <p:blipFill>
            <a:blip r:embed="rId2"/>
            <a:stretch/>
          </p:blipFill>
          <p:spPr>
            <a:xfrm>
              <a:off x="1692360" y="153972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図 6" descr=""/>
            <p:cNvPicPr/>
            <p:nvPr/>
          </p:nvPicPr>
          <p:blipFill>
            <a:blip r:embed="rId3"/>
            <a:stretch/>
          </p:blipFill>
          <p:spPr>
            <a:xfrm>
              <a:off x="340956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図 7" descr=""/>
            <p:cNvPicPr/>
            <p:nvPr/>
          </p:nvPicPr>
          <p:blipFill>
            <a:blip r:embed="rId4"/>
            <a:stretch/>
          </p:blipFill>
          <p:spPr>
            <a:xfrm>
              <a:off x="427392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図 8" descr=""/>
            <p:cNvPicPr/>
            <p:nvPr/>
          </p:nvPicPr>
          <p:blipFill>
            <a:blip r:embed="rId5"/>
            <a:stretch/>
          </p:blipFill>
          <p:spPr>
            <a:xfrm>
              <a:off x="513828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図 9" descr=""/>
            <p:cNvPicPr/>
            <p:nvPr/>
          </p:nvPicPr>
          <p:blipFill>
            <a:blip r:embed="rId6"/>
            <a:stretch/>
          </p:blipFill>
          <p:spPr>
            <a:xfrm>
              <a:off x="600264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図 10" descr=""/>
            <p:cNvPicPr/>
            <p:nvPr/>
          </p:nvPicPr>
          <p:blipFill>
            <a:blip r:embed="rId7"/>
            <a:stretch/>
          </p:blipFill>
          <p:spPr>
            <a:xfrm>
              <a:off x="686664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図 11" descr=""/>
            <p:cNvPicPr/>
            <p:nvPr/>
          </p:nvPicPr>
          <p:blipFill>
            <a:blip r:embed="rId8"/>
            <a:stretch/>
          </p:blipFill>
          <p:spPr>
            <a:xfrm>
              <a:off x="7731000" y="1557000"/>
              <a:ext cx="75276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グループ化 20"/>
          <p:cNvGrpSpPr/>
          <p:nvPr/>
        </p:nvGrpSpPr>
        <p:grpSpPr>
          <a:xfrm>
            <a:off x="3059280" y="2421000"/>
            <a:ext cx="5073480" cy="503280"/>
            <a:chOff x="3059280" y="2421000"/>
            <a:chExt cx="5073480" cy="503280"/>
          </a:xfrm>
        </p:grpSpPr>
        <p:pic>
          <p:nvPicPr>
            <p:cNvPr id="352" name="図 12" descr=""/>
            <p:cNvPicPr/>
            <p:nvPr/>
          </p:nvPicPr>
          <p:blipFill>
            <a:blip r:embed="rId9"/>
            <a:stretch/>
          </p:blipFill>
          <p:spPr>
            <a:xfrm>
              <a:off x="305928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図 13" descr=""/>
            <p:cNvPicPr/>
            <p:nvPr/>
          </p:nvPicPr>
          <p:blipFill>
            <a:blip r:embed="rId10"/>
            <a:stretch/>
          </p:blipFill>
          <p:spPr>
            <a:xfrm>
              <a:off x="392328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図 14" descr=""/>
            <p:cNvPicPr/>
            <p:nvPr/>
          </p:nvPicPr>
          <p:blipFill>
            <a:blip r:embed="rId11"/>
            <a:stretch/>
          </p:blipFill>
          <p:spPr>
            <a:xfrm>
              <a:off x="478764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図 15" descr=""/>
            <p:cNvPicPr/>
            <p:nvPr/>
          </p:nvPicPr>
          <p:blipFill>
            <a:blip r:embed="rId12"/>
            <a:stretch/>
          </p:blipFill>
          <p:spPr>
            <a:xfrm>
              <a:off x="565164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図 16" descr=""/>
            <p:cNvPicPr/>
            <p:nvPr/>
          </p:nvPicPr>
          <p:blipFill>
            <a:blip r:embed="rId13"/>
            <a:stretch/>
          </p:blipFill>
          <p:spPr>
            <a:xfrm>
              <a:off x="6517080" y="2421000"/>
              <a:ext cx="7516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図 17" descr=""/>
            <p:cNvPicPr/>
            <p:nvPr/>
          </p:nvPicPr>
          <p:blipFill>
            <a:blip r:embed="rId14"/>
            <a:stretch/>
          </p:blipFill>
          <p:spPr>
            <a:xfrm>
              <a:off x="738036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正方形/長方形 31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jsa"/>
          <p:cNvPicPr/>
          <p:nvPr/>
        </p:nvPicPr>
        <p:blipFill>
          <a:blip r:embed="rId15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60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Requirements for Enact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正方形/長方形 34"/>
          <p:cNvSpPr/>
          <p:nvPr/>
        </p:nvSpPr>
        <p:spPr>
          <a:xfrm>
            <a:off x="326880" y="6427800"/>
            <a:ext cx="85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e Can Satisfy all conditions if …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330120" y="4041720"/>
            <a:ext cx="7494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contracting states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sta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Merchant fle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21.4%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of GT of the world’s merchant shipping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%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Maximum annual ship recycling volu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ndara"/>
                <a:ea typeface="HGP明朝E"/>
              </a:rPr>
              <a:t>0.3%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of GT of the contracting states’ fleet (not less than 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  <a:ea typeface="HGP明朝E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%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角丸四角形 21"/>
          <p:cNvSpPr/>
          <p:nvPr/>
        </p:nvSpPr>
        <p:spPr>
          <a:xfrm>
            <a:off x="330120" y="3341520"/>
            <a:ext cx="3240000" cy="446400"/>
          </a:xfrm>
          <a:prstGeom prst="roundRect">
            <a:avLst>
              <a:gd name="adj" fmla="val 4247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正方形/長方形 4"/>
          <p:cNvSpPr/>
          <p:nvPr/>
        </p:nvSpPr>
        <p:spPr>
          <a:xfrm>
            <a:off x="534960" y="3357720"/>
            <a:ext cx="28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HGP明朝E"/>
              </a:rPr>
              <a:t>Requirements for Ent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下矢印 3"/>
          <p:cNvSpPr/>
          <p:nvPr/>
        </p:nvSpPr>
        <p:spPr>
          <a:xfrm>
            <a:off x="7647120" y="3340080"/>
            <a:ext cx="1035000" cy="568440"/>
          </a:xfrm>
          <a:prstGeom prst="downArrow">
            <a:avLst>
              <a:gd name="adj1" fmla="val 50000"/>
              <a:gd name="adj2" fmla="val 6317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角丸四角形 7"/>
          <p:cNvSpPr/>
          <p:nvPr/>
        </p:nvSpPr>
        <p:spPr>
          <a:xfrm>
            <a:off x="7647120" y="4008600"/>
            <a:ext cx="1035000" cy="70164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角丸四角形 27"/>
          <p:cNvSpPr/>
          <p:nvPr/>
        </p:nvSpPr>
        <p:spPr>
          <a:xfrm>
            <a:off x="7740720" y="4973760"/>
            <a:ext cx="961920" cy="65880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角丸四角形 28"/>
          <p:cNvSpPr/>
          <p:nvPr/>
        </p:nvSpPr>
        <p:spPr>
          <a:xfrm>
            <a:off x="7715160" y="5727600"/>
            <a:ext cx="1009800" cy="711360"/>
          </a:xfrm>
          <a:prstGeom prst="roundRect">
            <a:avLst>
              <a:gd name="adj" fmla="val 16667"/>
            </a:avLst>
          </a:prstGeom>
          <a:solidFill>
            <a:srgbClr val="c1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テキスト ボックス 8"/>
          <p:cNvSpPr/>
          <p:nvPr/>
        </p:nvSpPr>
        <p:spPr>
          <a:xfrm>
            <a:off x="7812000" y="38624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ndara"/>
                <a:ea typeface="HGP明朝E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テキスト ボックス 29"/>
          <p:cNvSpPr/>
          <p:nvPr/>
        </p:nvSpPr>
        <p:spPr>
          <a:xfrm>
            <a:off x="7667640" y="49528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  <a:ea typeface="HGP明朝E"/>
              </a:rPr>
              <a:t>30.8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テキスト ボックス 30"/>
          <p:cNvSpPr/>
          <p:nvPr/>
        </p:nvSpPr>
        <p:spPr>
          <a:xfrm>
            <a:off x="7810560" y="567072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  <a:ea typeface="HGP明朝E"/>
              </a:rPr>
              <a:t>3.5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正方形/長方形 26"/>
          <p:cNvSpPr/>
          <p:nvPr/>
        </p:nvSpPr>
        <p:spPr>
          <a:xfrm>
            <a:off x="330120" y="1071720"/>
            <a:ext cx="8921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HGP明朝E"/>
              </a:rPr>
              <a:t>Continued increase in number of countries ratifying HK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Ratified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明朝E"/>
              </a:rPr>
              <a:t>To Be Ratified Soo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明朝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正方形/長方形 2"/>
          <p:cNvSpPr/>
          <p:nvPr/>
        </p:nvSpPr>
        <p:spPr>
          <a:xfrm>
            <a:off x="326880" y="6427800"/>
            <a:ext cx="85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e Can Satisfy all conditions if China joins us!!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5" name="グループ化 18"/>
          <p:cNvGrpSpPr/>
          <p:nvPr/>
        </p:nvGrpSpPr>
        <p:grpSpPr>
          <a:xfrm>
            <a:off x="1692360" y="1539720"/>
            <a:ext cx="6791400" cy="520920"/>
            <a:chOff x="1692360" y="1539720"/>
            <a:chExt cx="6791400" cy="520920"/>
          </a:xfrm>
        </p:grpSpPr>
        <p:pic>
          <p:nvPicPr>
            <p:cNvPr id="376" name="図 4" descr=""/>
            <p:cNvPicPr/>
            <p:nvPr/>
          </p:nvPicPr>
          <p:blipFill>
            <a:blip r:embed="rId1"/>
            <a:stretch/>
          </p:blipFill>
          <p:spPr>
            <a:xfrm>
              <a:off x="2545200" y="153972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図 5" descr=""/>
            <p:cNvPicPr/>
            <p:nvPr/>
          </p:nvPicPr>
          <p:blipFill>
            <a:blip r:embed="rId2"/>
            <a:stretch/>
          </p:blipFill>
          <p:spPr>
            <a:xfrm>
              <a:off x="1692360" y="153972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図 6" descr=""/>
            <p:cNvPicPr/>
            <p:nvPr/>
          </p:nvPicPr>
          <p:blipFill>
            <a:blip r:embed="rId3"/>
            <a:stretch/>
          </p:blipFill>
          <p:spPr>
            <a:xfrm>
              <a:off x="340956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図 7" descr=""/>
            <p:cNvPicPr/>
            <p:nvPr/>
          </p:nvPicPr>
          <p:blipFill>
            <a:blip r:embed="rId4"/>
            <a:stretch/>
          </p:blipFill>
          <p:spPr>
            <a:xfrm>
              <a:off x="427392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図 8" descr=""/>
            <p:cNvPicPr/>
            <p:nvPr/>
          </p:nvPicPr>
          <p:blipFill>
            <a:blip r:embed="rId5"/>
            <a:stretch/>
          </p:blipFill>
          <p:spPr>
            <a:xfrm>
              <a:off x="513828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図 9" descr=""/>
            <p:cNvPicPr/>
            <p:nvPr/>
          </p:nvPicPr>
          <p:blipFill>
            <a:blip r:embed="rId6"/>
            <a:stretch/>
          </p:blipFill>
          <p:spPr>
            <a:xfrm>
              <a:off x="600264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図 10" descr=""/>
            <p:cNvPicPr/>
            <p:nvPr/>
          </p:nvPicPr>
          <p:blipFill>
            <a:blip r:embed="rId7"/>
            <a:stretch/>
          </p:blipFill>
          <p:spPr>
            <a:xfrm>
              <a:off x="6866640" y="1556640"/>
              <a:ext cx="75276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図 11" descr=""/>
            <p:cNvPicPr/>
            <p:nvPr/>
          </p:nvPicPr>
          <p:blipFill>
            <a:blip r:embed="rId8"/>
            <a:stretch/>
          </p:blipFill>
          <p:spPr>
            <a:xfrm>
              <a:off x="7731000" y="1557000"/>
              <a:ext cx="75276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グループ化 20"/>
          <p:cNvGrpSpPr/>
          <p:nvPr/>
        </p:nvGrpSpPr>
        <p:grpSpPr>
          <a:xfrm>
            <a:off x="3059280" y="2421000"/>
            <a:ext cx="5073480" cy="503280"/>
            <a:chOff x="3059280" y="2421000"/>
            <a:chExt cx="5073480" cy="503280"/>
          </a:xfrm>
        </p:grpSpPr>
        <p:pic>
          <p:nvPicPr>
            <p:cNvPr id="385" name="図 12" descr=""/>
            <p:cNvPicPr/>
            <p:nvPr/>
          </p:nvPicPr>
          <p:blipFill>
            <a:blip r:embed="rId9"/>
            <a:stretch/>
          </p:blipFill>
          <p:spPr>
            <a:xfrm>
              <a:off x="305928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図 13" descr=""/>
            <p:cNvPicPr/>
            <p:nvPr/>
          </p:nvPicPr>
          <p:blipFill>
            <a:blip r:embed="rId10"/>
            <a:stretch/>
          </p:blipFill>
          <p:spPr>
            <a:xfrm>
              <a:off x="392328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図 14" descr=""/>
            <p:cNvPicPr/>
            <p:nvPr/>
          </p:nvPicPr>
          <p:blipFill>
            <a:blip r:embed="rId11"/>
            <a:stretch/>
          </p:blipFill>
          <p:spPr>
            <a:xfrm>
              <a:off x="478764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図 15" descr=""/>
            <p:cNvPicPr/>
            <p:nvPr/>
          </p:nvPicPr>
          <p:blipFill>
            <a:blip r:embed="rId12"/>
            <a:stretch/>
          </p:blipFill>
          <p:spPr>
            <a:xfrm>
              <a:off x="565164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図 16" descr=""/>
            <p:cNvPicPr/>
            <p:nvPr/>
          </p:nvPicPr>
          <p:blipFill>
            <a:blip r:embed="rId13"/>
            <a:stretch/>
          </p:blipFill>
          <p:spPr>
            <a:xfrm>
              <a:off x="6517080" y="2421000"/>
              <a:ext cx="7516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図 17" descr=""/>
            <p:cNvPicPr/>
            <p:nvPr/>
          </p:nvPicPr>
          <p:blipFill>
            <a:blip r:embed="rId14"/>
            <a:stretch/>
          </p:blipFill>
          <p:spPr>
            <a:xfrm>
              <a:off x="7380360" y="2421000"/>
              <a:ext cx="7524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正方形/長方形 31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jsa"/>
          <p:cNvPicPr/>
          <p:nvPr/>
        </p:nvPicPr>
        <p:blipFill>
          <a:blip r:embed="rId15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393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Requirements for Enact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35" descr="ä¸­è¯äººæ°å±åå½å½æ"/>
          <p:cNvPicPr/>
          <p:nvPr/>
        </p:nvPicPr>
        <p:blipFill>
          <a:blip r:embed="rId16"/>
          <a:stretch/>
        </p:blipFill>
        <p:spPr>
          <a:xfrm>
            <a:off x="8250120" y="2419200"/>
            <a:ext cx="752760" cy="505080"/>
          </a:xfrm>
          <a:prstGeom prst="rect">
            <a:avLst/>
          </a:prstGeom>
          <a:ln w="0">
            <a:noFill/>
          </a:ln>
        </p:spPr>
      </p:pic>
      <p:grpSp>
        <p:nvGrpSpPr>
          <p:cNvPr id="395" name="グループ化 3"/>
          <p:cNvGrpSpPr/>
          <p:nvPr/>
        </p:nvGrpSpPr>
        <p:grpSpPr>
          <a:xfrm>
            <a:off x="7647120" y="3841920"/>
            <a:ext cx="1035000" cy="1556280"/>
            <a:chOff x="7647120" y="3841920"/>
            <a:chExt cx="1035000" cy="1556280"/>
          </a:xfrm>
        </p:grpSpPr>
        <p:sp>
          <p:nvSpPr>
            <p:cNvPr id="396" name="角丸四角形 7"/>
            <p:cNvSpPr/>
            <p:nvPr/>
          </p:nvSpPr>
          <p:spPr>
            <a:xfrm>
              <a:off x="7647120" y="4011840"/>
              <a:ext cx="1035000" cy="701280"/>
            </a:xfrm>
            <a:prstGeom prst="roundRect">
              <a:avLst>
                <a:gd name="adj" fmla="val 16667"/>
              </a:avLst>
            </a:prstGeom>
            <a:solidFill>
              <a:srgbClr val="c1ff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7" name="テキスト ボックス 8"/>
            <p:cNvSpPr/>
            <p:nvPr/>
          </p:nvSpPr>
          <p:spPr>
            <a:xfrm>
              <a:off x="7789320" y="3841920"/>
              <a:ext cx="713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ndara"/>
                  <a:ea typeface="HGP明朝E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398" name="グループ化 4"/>
          <p:cNvGrpSpPr/>
          <p:nvPr/>
        </p:nvGrpSpPr>
        <p:grpSpPr>
          <a:xfrm>
            <a:off x="7667640" y="4861080"/>
            <a:ext cx="1130400" cy="1312920"/>
            <a:chOff x="7667640" y="4861080"/>
            <a:chExt cx="1130400" cy="1312920"/>
          </a:xfrm>
        </p:grpSpPr>
        <p:sp>
          <p:nvSpPr>
            <p:cNvPr id="399" name="角丸四角形 27"/>
            <p:cNvSpPr/>
            <p:nvPr/>
          </p:nvSpPr>
          <p:spPr>
            <a:xfrm>
              <a:off x="7740000" y="4973400"/>
              <a:ext cx="961560" cy="659160"/>
            </a:xfrm>
            <a:prstGeom prst="roundRect">
              <a:avLst>
                <a:gd name="adj" fmla="val 16667"/>
              </a:avLst>
            </a:prstGeom>
            <a:solidFill>
              <a:srgbClr val="c1ff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0" name="テキスト ボックス 29"/>
            <p:cNvSpPr/>
            <p:nvPr/>
          </p:nvSpPr>
          <p:spPr>
            <a:xfrm>
              <a:off x="7667640" y="4861080"/>
              <a:ext cx="1130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ndara"/>
                  <a:ea typeface="HGP明朝E"/>
                </a:rPr>
                <a:t>43.7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01" name="グループ化 5"/>
          <p:cNvGrpSpPr/>
          <p:nvPr/>
        </p:nvGrpSpPr>
        <p:grpSpPr>
          <a:xfrm>
            <a:off x="7716960" y="5634000"/>
            <a:ext cx="1014120" cy="1434600"/>
            <a:chOff x="7716960" y="5634000"/>
            <a:chExt cx="1014120" cy="1434600"/>
          </a:xfrm>
        </p:grpSpPr>
        <p:sp>
          <p:nvSpPr>
            <p:cNvPr id="402" name="角丸四角形 28"/>
            <p:cNvSpPr/>
            <p:nvPr/>
          </p:nvSpPr>
          <p:spPr>
            <a:xfrm>
              <a:off x="7716960" y="5725440"/>
              <a:ext cx="1009440" cy="711720"/>
            </a:xfrm>
            <a:prstGeom prst="roundRect">
              <a:avLst>
                <a:gd name="adj" fmla="val 16667"/>
              </a:avLst>
            </a:prstGeom>
            <a:solidFill>
              <a:srgbClr val="c1ff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3" name="テキスト ボックス 30"/>
            <p:cNvSpPr/>
            <p:nvPr/>
          </p:nvSpPr>
          <p:spPr>
            <a:xfrm>
              <a:off x="7796520" y="5634000"/>
              <a:ext cx="934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ndara"/>
                  <a:ea typeface="HGP明朝E"/>
                </a:rPr>
                <a:t>3.9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06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Requirements for Enact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7" name="Picture 2" descr="ãè¿åè·¯ã¤ã©ã¹ã ç¡æãã®ç»åæ¤ç´¢çµæ"/>
          <p:cNvPicPr/>
          <p:nvPr/>
        </p:nvPicPr>
        <p:blipFill>
          <a:blip r:embed="rId2"/>
          <a:srcRect l="2819" t="13845" r="20622" b="0"/>
          <a:stretch/>
        </p:blipFill>
        <p:spPr>
          <a:xfrm>
            <a:off x="969840" y="2295360"/>
            <a:ext cx="7850160" cy="4329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101520" y="5877000"/>
            <a:ext cx="588960" cy="747720"/>
          </a:xfrm>
          <a:prstGeom prst="rect">
            <a:avLst/>
          </a:prstGeom>
          <a:ln w="0">
            <a:noFill/>
          </a:ln>
        </p:spPr>
      </p:pic>
      <p:sp>
        <p:nvSpPr>
          <p:cNvPr id="409" name="右矢印 7"/>
          <p:cNvSpPr/>
          <p:nvPr/>
        </p:nvSpPr>
        <p:spPr>
          <a:xfrm rot="19496400">
            <a:off x="247320" y="3636720"/>
            <a:ext cx="6264360" cy="485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395280" y="14828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HGP明朝E"/>
              </a:rPr>
              <a:t>Which Way ?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爆発 2 16"/>
          <p:cNvSpPr/>
          <p:nvPr/>
        </p:nvSpPr>
        <p:spPr>
          <a:xfrm rot="1980600">
            <a:off x="5524200" y="574560"/>
            <a:ext cx="2203560" cy="1846440"/>
          </a:xfrm>
          <a:prstGeom prst="irregularSeal2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正方形/長方形 17"/>
          <p:cNvSpPr/>
          <p:nvPr/>
        </p:nvSpPr>
        <p:spPr>
          <a:xfrm>
            <a:off x="5796000" y="129852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ctment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" name="Picture 4" descr="ä¸­å½ã®å½æç»å"/>
          <p:cNvPicPr/>
          <p:nvPr/>
        </p:nvPicPr>
        <p:blipFill>
          <a:blip r:embed="rId4"/>
          <a:stretch/>
        </p:blipFill>
        <p:spPr>
          <a:xfrm>
            <a:off x="1258920" y="3919680"/>
            <a:ext cx="809640" cy="53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ãã³ã°ã©ãã·ã¥ã®å½æç»å"/>
          <p:cNvPicPr/>
          <p:nvPr/>
        </p:nvPicPr>
        <p:blipFill>
          <a:blip r:embed="rId5"/>
          <a:stretch/>
        </p:blipFill>
        <p:spPr>
          <a:xfrm>
            <a:off x="5208480" y="5337000"/>
            <a:ext cx="809640" cy="540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22 0.29537 C -0.27222 0.28449 -0.2684 0.27338 -0.26302 0.26297 C -0.26111 0.25903 -0.24566 0.22037 -0.23125 0.2081 C -0.22708 0.20463 -0.22257 0.20162 -0.21806 0.19908 C -0.19983 0.18773 -0.18854 0.18287 -0.16476 0.17593 C -0.15938 0.17454 -0.15417 0.17338 -0.14879 0.1713 C -0.13854 0.16783 -0.13177 0.1632 -0.12205 0.15764 C -0.09948 0.13195 -0.12726 0.16459 -0.10903 0.13935 C -0.10642 0.13611 -0.10278 0.13357 -0.10104 0.13033 C -0.09392 0.11922 -0.09236 0.11204 -0.0875 0.1007 C -0.08594 0.09676 -0.08455 0.09283 -0.08212 0.08889 C -0.07986 0.08496 -0.07691 0.08148 -0.07431 0.07755 C -0.0724 0.07454 -0.07118 0.0713 -0.06892 0.06829 C -0.06667 0.06574 -0.06406 0.06389 -0.06094 0.06158 C -0.05226 0.0551 -0.05087 0.05533 -0.04254 0.05 C -0.02847 0.04121 -0.03681 0.04445 -0.02396 0.04097 C -0.01563 0.0338 -0.01476 0.03449 -0.01076 0.025 C -0.00799 0.01922 -0.00833 0.01459 -0.00538 0.00903 C 0.00069 -0.00115 8.33333E-007 0.00533 8.33333E-007 -2.59259E-006 E">
                                      <p:cBhvr>
                                        <p:cTn id="33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18" name="正方形/長方形 6"/>
          <p:cNvSpPr/>
          <p:nvPr/>
        </p:nvSpPr>
        <p:spPr>
          <a:xfrm>
            <a:off x="971640" y="1824120"/>
            <a:ext cx="64087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China is time-keeper of enact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Now is the time for them to show leadership as an influential maritime n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What should We Do for China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Media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G to 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Dialogue - international foru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Requirements for Enac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テキスト ボックス 1"/>
          <p:cNvSpPr/>
          <p:nvPr/>
        </p:nvSpPr>
        <p:spPr>
          <a:xfrm>
            <a:off x="308160" y="5445000"/>
            <a:ext cx="86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t’s important to identify contact window/current policy of China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正方形/長方形 3"/>
          <p:cNvSpPr/>
          <p:nvPr/>
        </p:nvSpPr>
        <p:spPr>
          <a:xfrm>
            <a:off x="0" y="836640"/>
            <a:ext cx="9144000" cy="5259240"/>
          </a:xfrm>
          <a:prstGeom prst="rect">
            <a:avLst/>
          </a:prstGeom>
          <a:gradFill rotWithShape="0">
            <a:gsLst>
              <a:gs pos="0">
                <a:srgbClr val="1f4e79"/>
              </a:gs>
              <a:gs pos="100000">
                <a:srgbClr val="2e75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テキスト ボックス 4"/>
          <p:cNvSpPr/>
          <p:nvPr/>
        </p:nvSpPr>
        <p:spPr>
          <a:xfrm>
            <a:off x="1044720" y="293544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A SRC Action!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4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7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28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Proposed ASA SRC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テキスト ボックス 1"/>
          <p:cNvSpPr/>
          <p:nvPr/>
        </p:nvSpPr>
        <p:spPr>
          <a:xfrm>
            <a:off x="239760" y="125244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creasing demand, but there could be some political aspects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or Example, SR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正方形/長方形 2"/>
          <p:cNvSpPr/>
          <p:nvPr/>
        </p:nvSpPr>
        <p:spPr>
          <a:xfrm>
            <a:off x="468360" y="5840280"/>
            <a:ext cx="85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gnize Increasing Demand by Raising Environmental Awaren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nd Act Appropriately == It is our mission to take initiative for this fiel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9" descr="https://peoples-free.com/highresolution/159-free-peoples.png"/>
          <p:cNvPicPr/>
          <p:nvPr/>
        </p:nvPicPr>
        <p:blipFill>
          <a:blip r:embed="rId2"/>
          <a:stretch/>
        </p:blipFill>
        <p:spPr>
          <a:xfrm>
            <a:off x="-468360" y="2449440"/>
            <a:ext cx="4557600" cy="3314880"/>
          </a:xfrm>
          <a:prstGeom prst="rect">
            <a:avLst/>
          </a:prstGeom>
          <a:ln w="0">
            <a:noFill/>
          </a:ln>
        </p:spPr>
      </p:pic>
      <p:pic>
        <p:nvPicPr>
          <p:cNvPr id="432" name="図 10" descr=""/>
          <p:cNvPicPr/>
          <p:nvPr/>
        </p:nvPicPr>
        <p:blipFill>
          <a:blip r:embed="rId3"/>
          <a:srcRect l="15676" t="18112" r="20140" b="43522"/>
          <a:stretch/>
        </p:blipFill>
        <p:spPr>
          <a:xfrm>
            <a:off x="3357720" y="2073240"/>
            <a:ext cx="5545080" cy="1852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3" name="図 11" descr=""/>
          <p:cNvPicPr/>
          <p:nvPr/>
        </p:nvPicPr>
        <p:blipFill>
          <a:blip r:embed="rId4"/>
          <a:srcRect l="15676" t="69613" r="20140" b="9734"/>
          <a:stretch/>
        </p:blipFill>
        <p:spPr>
          <a:xfrm>
            <a:off x="3348000" y="3960720"/>
            <a:ext cx="5545080" cy="103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34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正方形/長方形 17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Proposed ASA SRC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7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38" name="正方形/長方形 21"/>
          <p:cNvSpPr/>
          <p:nvPr/>
        </p:nvSpPr>
        <p:spPr>
          <a:xfrm>
            <a:off x="31680" y="1209600"/>
            <a:ext cx="909972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priority usage of HKC-certified yards &amp; yards in process of obtaining certif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tivate yards to justify upgrading by the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nsertion clause to specify above categorized yards into the sale  contrac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voluntary preparation of IHM list onboa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ngthen joint work with other shipowner associations and also stakehold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peak out of ASA Voices for early enactment of HKC at every  possible opportunity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etting an action plan and  review it to call ad hock meeting in China!!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18" descr="http://asianshipowners.org/imgs/member_mial.jpg"/>
          <p:cNvPicPr/>
          <p:nvPr/>
        </p:nvPicPr>
        <p:blipFill>
          <a:blip r:embed="rId2"/>
          <a:stretch/>
        </p:blipFill>
        <p:spPr>
          <a:xfrm>
            <a:off x="73080" y="4336920"/>
            <a:ext cx="1143000" cy="13338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http://asianshipowners.org/imgs/member_csa.jpg"/>
          <p:cNvPicPr/>
          <p:nvPr/>
        </p:nvPicPr>
        <p:blipFill>
          <a:blip r:embed="rId3"/>
          <a:stretch/>
        </p:blipFill>
        <p:spPr>
          <a:xfrm>
            <a:off x="1244520" y="43434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2" descr="http://asianshipowners.org/imgs/member_fasa.jpg"/>
          <p:cNvPicPr/>
          <p:nvPr/>
        </p:nvPicPr>
        <p:blipFill>
          <a:blip r:embed="rId4"/>
          <a:stretch/>
        </p:blipFill>
        <p:spPr>
          <a:xfrm>
            <a:off x="2419200" y="4398840"/>
            <a:ext cx="1143000" cy="1333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4" descr="http://asianshipowners.org/imgs/member_hksa.jpg"/>
          <p:cNvPicPr/>
          <p:nvPr/>
        </p:nvPicPr>
        <p:blipFill>
          <a:blip r:embed="rId5"/>
          <a:stretch/>
        </p:blipFill>
        <p:spPr>
          <a:xfrm>
            <a:off x="3560760" y="4398840"/>
            <a:ext cx="1143000" cy="1333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6" descr="http://asianshipowners.org/imgs/member_insa.jpg"/>
          <p:cNvPicPr/>
          <p:nvPr/>
        </p:nvPicPr>
        <p:blipFill>
          <a:blip r:embed="rId6"/>
          <a:stretch/>
        </p:blipFill>
        <p:spPr>
          <a:xfrm>
            <a:off x="4648320" y="43434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http://asianshipowners.org/imgs/member_jsa.jpg"/>
          <p:cNvPicPr/>
          <p:nvPr/>
        </p:nvPicPr>
        <p:blipFill>
          <a:blip r:embed="rId7"/>
          <a:stretch/>
        </p:blipFill>
        <p:spPr>
          <a:xfrm>
            <a:off x="5580000" y="43434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0" descr="http://asianshipowners.org/imgs/member_ksa.jpg"/>
          <p:cNvPicPr/>
          <p:nvPr/>
        </p:nvPicPr>
        <p:blipFill>
          <a:blip r:embed="rId8"/>
          <a:stretch/>
        </p:blipFill>
        <p:spPr>
          <a:xfrm>
            <a:off x="6727680" y="4398840"/>
            <a:ext cx="1143000" cy="1333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2" descr="http://asianshipowners.org/imgs/member_nacs.jpg"/>
          <p:cNvPicPr/>
          <p:nvPr/>
        </p:nvPicPr>
        <p:blipFill>
          <a:blip r:embed="rId9"/>
          <a:stretch/>
        </p:blipFill>
        <p:spPr>
          <a:xfrm>
            <a:off x="7978680" y="433224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直線コネクタ 2"/>
          <p:cNvSpPr/>
          <p:nvPr/>
        </p:nvSpPr>
        <p:spPr>
          <a:xfrm flipV="1">
            <a:off x="611280" y="3390840"/>
            <a:ext cx="7775640" cy="36720"/>
          </a:xfrm>
          <a:prstGeom prst="line">
            <a:avLst/>
          </a:prstGeom>
          <a:ln w="63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テキスト ボックス 14"/>
          <p:cNvSpPr/>
          <p:nvPr/>
        </p:nvSpPr>
        <p:spPr>
          <a:xfrm>
            <a:off x="971640" y="2944800"/>
            <a:ext cx="55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M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テキスト ボックス 14"/>
          <p:cNvSpPr/>
          <p:nvPr/>
        </p:nvSpPr>
        <p:spPr>
          <a:xfrm>
            <a:off x="5038560" y="2936880"/>
            <a:ext cx="55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Ma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テキスト ボックス 14"/>
          <p:cNvSpPr/>
          <p:nvPr/>
        </p:nvSpPr>
        <p:spPr>
          <a:xfrm>
            <a:off x="2627280" y="2944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Ap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直線コネクタ 5"/>
          <p:cNvSpPr/>
          <p:nvPr/>
        </p:nvSpPr>
        <p:spPr>
          <a:xfrm flipH="1">
            <a:off x="4917600" y="3479760"/>
            <a:ext cx="1352520" cy="703440"/>
          </a:xfrm>
          <a:prstGeom prst="line">
            <a:avLst/>
          </a:prstGeom>
          <a:ln w="6480">
            <a:solidFill>
              <a:srgbClr val="5b9b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テキスト ボックス 14"/>
          <p:cNvSpPr/>
          <p:nvPr/>
        </p:nvSpPr>
        <p:spPr>
          <a:xfrm>
            <a:off x="2440080" y="4129200"/>
            <a:ext cx="34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5/9</a:t>
            </a:r>
            <a:r>
              <a:rPr b="0" lang="ja-JP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Industry Working Grou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5/10 IMO/JG Semin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直線コネクタ 7"/>
          <p:cNvSpPr/>
          <p:nvPr/>
        </p:nvSpPr>
        <p:spPr>
          <a:xfrm flipH="1">
            <a:off x="5919480" y="3479760"/>
            <a:ext cx="911160" cy="1357200"/>
          </a:xfrm>
          <a:prstGeom prst="line">
            <a:avLst/>
          </a:prstGeom>
          <a:ln w="6480">
            <a:solidFill>
              <a:srgbClr val="5b9b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テキスト ボックス 14"/>
          <p:cNvSpPr/>
          <p:nvPr/>
        </p:nvSpPr>
        <p:spPr>
          <a:xfrm>
            <a:off x="3106800" y="4884840"/>
            <a:ext cx="32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5/27  Global Shipowners’ Meetin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5/28</a:t>
            </a:r>
            <a:r>
              <a:rPr b="0" lang="ja-JP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ASA AG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直線コネクタ 3"/>
          <p:cNvSpPr/>
          <p:nvPr/>
        </p:nvSpPr>
        <p:spPr>
          <a:xfrm flipH="1">
            <a:off x="8024760" y="3479760"/>
            <a:ext cx="657360" cy="498600"/>
          </a:xfrm>
          <a:prstGeom prst="line">
            <a:avLst/>
          </a:prstGeom>
          <a:ln w="9360">
            <a:solidFill>
              <a:srgbClr val="5b9bd5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テキスト ボックス 14"/>
          <p:cNvSpPr/>
          <p:nvPr/>
        </p:nvSpPr>
        <p:spPr>
          <a:xfrm>
            <a:off x="468360" y="20750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중고딕"/>
              </a:rPr>
              <a:t>&lt; Schedule of actions 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正方形/長方形 17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Proposed ASA SRC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0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61" name="テキスト ボックス 14"/>
          <p:cNvSpPr/>
          <p:nvPr/>
        </p:nvSpPr>
        <p:spPr>
          <a:xfrm>
            <a:off x="6516720" y="3978360"/>
            <a:ext cx="23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Ad-hoc Meeting in China?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42" name="コンテンツ プレースホルダー 2"/>
          <p:cNvSpPr/>
          <p:nvPr/>
        </p:nvSpPr>
        <p:spPr>
          <a:xfrm>
            <a:off x="217440" y="12708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Bangladesh on 25-26 November 2018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　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Taking opportunity to attend IMO worksh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3" name="Picture 3" descr="L:\HOME\シップリサイクル条約検討PT\SRFP鑑定書\バングラデシュ調査(IMOプロジェクト）2018－2019\20181130 バングラ出張（Gap Analysis)\調査結果\2 調査結果 SN Corporation\写真 SN Corporation\IMG_0109.JPG"/>
          <p:cNvPicPr/>
          <p:nvPr/>
        </p:nvPicPr>
        <p:blipFill>
          <a:blip r:embed="rId2"/>
          <a:stretch/>
        </p:blipFill>
        <p:spPr>
          <a:xfrm>
            <a:off x="198360" y="1170000"/>
            <a:ext cx="8747280" cy="56656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8659440" y="643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テキスト ボックス 2"/>
          <p:cNvSpPr/>
          <p:nvPr/>
        </p:nvSpPr>
        <p:spPr>
          <a:xfrm>
            <a:off x="684360" y="257004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nk  You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For Your Kind Attention!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テキスト ボックス 3"/>
          <p:cNvSpPr/>
          <p:nvPr/>
        </p:nvSpPr>
        <p:spPr>
          <a:xfrm>
            <a:off x="684360" y="4299120"/>
            <a:ext cx="77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entury Gothic"/>
                <a:ea typeface="SimSun"/>
              </a:rPr>
              <a:t>感谢聆听！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5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"/>
          <p:cNvSpPr/>
          <p:nvPr/>
        </p:nvSpPr>
        <p:spPr>
          <a:xfrm>
            <a:off x="8742960" y="633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テキスト ボックス 7"/>
          <p:cNvSpPr/>
          <p:nvPr/>
        </p:nvSpPr>
        <p:spPr>
          <a:xfrm>
            <a:off x="239760" y="1143000"/>
            <a:ext cx="446544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HY중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HY중고딕"/>
              </a:rPr>
              <a:t>SENSREC Projec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テキスト ボックス 14"/>
          <p:cNvSpPr/>
          <p:nvPr/>
        </p:nvSpPr>
        <p:spPr>
          <a:xfrm>
            <a:off x="30240" y="1565280"/>
            <a:ext cx="8640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d7d31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The key object is to improve standards related to occupational safety and health, working conditions and environmental protection </a:t>
            </a:r>
            <a:r>
              <a:rPr b="1" lang="en-US" sz="1600" spc="-1" strike="noStrike" u="sng">
                <a:solidFill>
                  <a:srgbClr val="262626"/>
                </a:solidFill>
                <a:uFillTx/>
                <a:latin typeface="Candara"/>
                <a:ea typeface="HY중고딕"/>
              </a:rPr>
              <a:t>toward ratification of HKC</a:t>
            </a: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d7d31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IMO and Bangladesh represented by the Ministry of Industries (MOI) are jointly implementing a project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entitled “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SENSREC</a:t>
            </a:r>
            <a:r>
              <a:rPr b="1" lang="en-US" sz="1100" spc="-1" strike="noStrike">
                <a:solidFill>
                  <a:srgbClr val="000000"/>
                </a:solidFill>
                <a:latin typeface="Candara"/>
                <a:ea typeface="HY중고딕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  <a:ea typeface="HY중고딕"/>
              </a:rPr>
              <a:t>” </a:t>
            </a: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d7d31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Following the successful completion of </a:t>
            </a:r>
            <a:r>
              <a:rPr b="1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PhaseⅠ</a:t>
            </a: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(January 2015 - March 2017), </a:t>
            </a:r>
            <a:r>
              <a:rPr b="1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PhaseⅡ</a:t>
            </a: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 is under way for </a:t>
            </a:r>
            <a:r>
              <a:rPr b="1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further improvement to HKC level, in particular </a:t>
            </a:r>
            <a:r>
              <a:rPr b="1" lang="en-US" sz="1600" spc="-1" strike="noStrike" u="sng">
                <a:solidFill>
                  <a:srgbClr val="262626"/>
                </a:solidFill>
                <a:uFillTx/>
                <a:latin typeface="Candara"/>
                <a:ea typeface="HY중고딕"/>
              </a:rPr>
              <a:t>TSDF</a:t>
            </a:r>
            <a:r>
              <a:rPr b="1" lang="en-US" sz="1100" spc="-1" strike="noStrike" u="sng">
                <a:solidFill>
                  <a:srgbClr val="262626"/>
                </a:solidFill>
                <a:uFillTx/>
                <a:latin typeface="Candara"/>
                <a:ea typeface="HY중고딕"/>
              </a:rPr>
              <a:t>(**)</a:t>
            </a:r>
            <a:r>
              <a:rPr b="1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 and </a:t>
            </a:r>
            <a:r>
              <a:rPr b="1" lang="en-US" sz="1600" spc="-1" strike="noStrike" u="sng">
                <a:solidFill>
                  <a:srgbClr val="262626"/>
                </a:solidFill>
                <a:uFillTx/>
                <a:latin typeface="Candara"/>
                <a:ea typeface="HY중고딕"/>
              </a:rPr>
              <a:t>Mind-reset </a:t>
            </a: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(awareness and training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d7d31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ndara"/>
                <a:ea typeface="HY중고딕"/>
              </a:rPr>
              <a:t>Mr. Tomoda, JSA SRC Chairman, participated in the workshop/site visit and called for further action together with shipping industry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10" descr="IMG_4870"/>
          <p:cNvPicPr/>
          <p:nvPr/>
        </p:nvPicPr>
        <p:blipFill>
          <a:blip r:embed="rId1"/>
          <a:stretch/>
        </p:blipFill>
        <p:spPr>
          <a:xfrm>
            <a:off x="4676760" y="4359240"/>
            <a:ext cx="2828880" cy="198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IMG_4753"/>
          <p:cNvPicPr/>
          <p:nvPr/>
        </p:nvPicPr>
        <p:blipFill>
          <a:blip r:embed="rId2"/>
          <a:stretch/>
        </p:blipFill>
        <p:spPr>
          <a:xfrm>
            <a:off x="388800" y="4352760"/>
            <a:ext cx="2638440" cy="1990800"/>
          </a:xfrm>
          <a:prstGeom prst="rect">
            <a:avLst/>
          </a:prstGeom>
          <a:ln w="0">
            <a:noFill/>
          </a:ln>
        </p:spPr>
      </p:pic>
      <p:sp>
        <p:nvSpPr>
          <p:cNvPr id="149" name="正方形/長方形 1"/>
          <p:cNvSpPr/>
          <p:nvPr/>
        </p:nvSpPr>
        <p:spPr>
          <a:xfrm>
            <a:off x="3013200" y="5761080"/>
            <a:ext cx="14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 was held on Nov 26, 2018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正方形/長方形 2"/>
          <p:cNvSpPr/>
          <p:nvPr/>
        </p:nvSpPr>
        <p:spPr>
          <a:xfrm>
            <a:off x="7505640" y="5945040"/>
            <a:ext cx="152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游ゴシック"/>
              </a:rPr>
              <a:t>Presentation by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游ゴシック"/>
              </a:rPr>
              <a:t>Mr. K. Tomod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Bangladesh on 25-26 November 201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3" name="Picture 2" descr="jsa"/>
          <p:cNvPicPr/>
          <p:nvPr/>
        </p:nvPicPr>
        <p:blipFill>
          <a:blip r:embed="rId3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54" name="テキスト ボックス 2"/>
          <p:cNvSpPr/>
          <p:nvPr/>
        </p:nvSpPr>
        <p:spPr>
          <a:xfrm>
            <a:off x="257760" y="6454800"/>
            <a:ext cx="69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ndara"/>
                <a:ea typeface="HY중고딕"/>
              </a:rPr>
              <a:t> </a:t>
            </a: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HY중고딕"/>
              </a:rPr>
              <a:t>(*) Safe and Environmentally-Sound Ship Recycling in Bangladesh / (**) Treatment Storage Disposal Facility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8741880" y="633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P明朝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ー 5"/>
          <p:cNvSpPr/>
          <p:nvPr/>
        </p:nvSpPr>
        <p:spPr>
          <a:xfrm>
            <a:off x="3505320" y="64738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87EA7-2839-4886-A8C1-99CAF12E23F3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正方形/長方形 7"/>
          <p:cNvSpPr/>
          <p:nvPr/>
        </p:nvSpPr>
        <p:spPr>
          <a:xfrm>
            <a:off x="3929040" y="3587760"/>
            <a:ext cx="5143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ite Investigation for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Gap Analysi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was carried out in cooperation with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6 SRF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 Bangladesh in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January 2019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urrently developing a guidance for SRFs on key improvements to reach HKC compliance level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Arial"/>
                <a:ea typeface="ＭＳ Ｐゴシック"/>
              </a:rPr>
              <a:t>in 4 years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正方形/長方形 1"/>
          <p:cNvSpPr/>
          <p:nvPr/>
        </p:nvSpPr>
        <p:spPr>
          <a:xfrm>
            <a:off x="168120" y="1146240"/>
            <a:ext cx="611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 Unicode MS"/>
              </a:rPr>
              <a:t>Development of a Generic Guidance and a Roadmap to help ship recycling yards in Bangladesh to prepare for the HK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Picture 5" descr="IMO logo"/>
          <p:cNvPicPr/>
          <p:nvPr/>
        </p:nvPicPr>
        <p:blipFill>
          <a:blip r:embed="rId1"/>
          <a:stretch/>
        </p:blipFill>
        <p:spPr>
          <a:xfrm>
            <a:off x="6283440" y="1255680"/>
            <a:ext cx="2423880" cy="71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rda.gov.bd/img/ban-gov_logo.jpg"/>
          <p:cNvPicPr/>
          <p:nvPr/>
        </p:nvPicPr>
        <p:blipFill>
          <a:blip r:embed="rId2"/>
          <a:stretch/>
        </p:blipFill>
        <p:spPr>
          <a:xfrm>
            <a:off x="6997680" y="2122560"/>
            <a:ext cx="971640" cy="75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6283440" y="2865600"/>
            <a:ext cx="2400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  <a:ea typeface="ＭＳ 明朝"/>
              </a:rPr>
              <a:t>Ministry of Industries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  <a:ea typeface="ＭＳ 明朝"/>
              </a:rPr>
              <a:t>Government of the People’s Republic of Bangladesh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5" descr="IMG_0014"/>
          <p:cNvPicPr/>
          <p:nvPr/>
        </p:nvPicPr>
        <p:blipFill>
          <a:blip r:embed="rId3"/>
          <a:stretch/>
        </p:blipFill>
        <p:spPr>
          <a:xfrm>
            <a:off x="433440" y="3882960"/>
            <a:ext cx="1577880" cy="1216080"/>
          </a:xfrm>
          <a:prstGeom prst="rect">
            <a:avLst/>
          </a:prstGeom>
          <a:ln w="0">
            <a:noFill/>
          </a:ln>
        </p:spPr>
      </p:pic>
      <p:pic>
        <p:nvPicPr>
          <p:cNvPr id="164" name="図 15" descr="C:\Users\1451\Desktop\写真 KR Steel\IMG_0133.JPG"/>
          <p:cNvPicPr/>
          <p:nvPr/>
        </p:nvPicPr>
        <p:blipFill>
          <a:blip r:embed="rId4"/>
          <a:stretch/>
        </p:blipFill>
        <p:spPr>
          <a:xfrm>
            <a:off x="433440" y="5256360"/>
            <a:ext cx="1577880" cy="1209600"/>
          </a:xfrm>
          <a:prstGeom prst="rect">
            <a:avLst/>
          </a:prstGeom>
          <a:ln w="0">
            <a:noFill/>
          </a:ln>
        </p:spPr>
      </p:pic>
      <p:pic>
        <p:nvPicPr>
          <p:cNvPr id="165" name="図 16" descr="C:\Users\1451\Desktop\写真 Prime Group of Industries\IMG_0351.JPG"/>
          <p:cNvPicPr/>
          <p:nvPr/>
        </p:nvPicPr>
        <p:blipFill>
          <a:blip r:embed="rId5"/>
          <a:stretch/>
        </p:blipFill>
        <p:spPr>
          <a:xfrm>
            <a:off x="2158920" y="2489040"/>
            <a:ext cx="162252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図 17" descr="C:\Users\1451\Desktop\写真 TR Ship Breakers\IMG_0360.JPG"/>
          <p:cNvPicPr/>
          <p:nvPr/>
        </p:nvPicPr>
        <p:blipFill>
          <a:blip r:embed="rId6"/>
          <a:stretch/>
        </p:blipFill>
        <p:spPr>
          <a:xfrm>
            <a:off x="2158920" y="3873600"/>
            <a:ext cx="1622520" cy="1216080"/>
          </a:xfrm>
          <a:prstGeom prst="rect">
            <a:avLst/>
          </a:prstGeom>
          <a:ln w="0">
            <a:noFill/>
          </a:ln>
        </p:spPr>
      </p:pic>
      <p:pic>
        <p:nvPicPr>
          <p:cNvPr id="167" name="図 18" descr="C:\Users\1451\Desktop\写真 Jamuna Ship Breakers (Asadi Steel)\IMG_0454.JPG"/>
          <p:cNvPicPr/>
          <p:nvPr/>
        </p:nvPicPr>
        <p:blipFill>
          <a:blip r:embed="rId7"/>
          <a:stretch/>
        </p:blipFill>
        <p:spPr>
          <a:xfrm>
            <a:off x="2138400" y="5256360"/>
            <a:ext cx="1614600" cy="1209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8"/>
          <a:stretch/>
        </p:blipFill>
        <p:spPr>
          <a:xfrm>
            <a:off x="433440" y="2494080"/>
            <a:ext cx="1577880" cy="1216080"/>
          </a:xfrm>
          <a:prstGeom prst="rect">
            <a:avLst/>
          </a:prstGeom>
          <a:ln w="0">
            <a:noFill/>
          </a:ln>
        </p:spPr>
      </p:pic>
      <p:sp>
        <p:nvSpPr>
          <p:cNvPr id="169" name="正方形/長方形 15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Project in Bangladesh by Class 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874188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74" name="コンテンツ プレースホルダー 2"/>
          <p:cNvSpPr/>
          <p:nvPr/>
        </p:nvSpPr>
        <p:spPr>
          <a:xfrm>
            <a:off x="173160" y="98280"/>
            <a:ext cx="8221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Bangladesh: Energetic for Upgrading but will take time.---- Need cooperation by all stakeholder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正方形/長方形 21"/>
          <p:cNvSpPr/>
          <p:nvPr/>
        </p:nvSpPr>
        <p:spPr>
          <a:xfrm>
            <a:off x="826920" y="22050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Key targeted points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正方形/長方形 22"/>
          <p:cNvSpPr/>
          <p:nvPr/>
        </p:nvSpPr>
        <p:spPr>
          <a:xfrm>
            <a:off x="1116000" y="299088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Set up TSDF and transitional measur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Effective treatment for big inter-tidal zo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Mind-reset (awareness and train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874188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80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Bangladesh on 25-26 November 201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正方形/長方形 21"/>
          <p:cNvSpPr/>
          <p:nvPr/>
        </p:nvSpPr>
        <p:spPr>
          <a:xfrm>
            <a:off x="1116000" y="22050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 Unicode MS"/>
              </a:rPr>
              <a:t>For exampl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テキスト ボックス 1"/>
          <p:cNvSpPr/>
          <p:nvPr/>
        </p:nvSpPr>
        <p:spPr>
          <a:xfrm>
            <a:off x="3203640" y="3805200"/>
            <a:ext cx="2232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PHP Short Vide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874188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5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86" name="コンテンツ プレースホルダー 2"/>
          <p:cNvSpPr/>
          <p:nvPr/>
        </p:nvSpPr>
        <p:spPr>
          <a:xfrm>
            <a:off x="239760" y="320760"/>
            <a:ext cx="822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JSA Fact Finding Visit to Bangladesh in April 201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テキスト ボックス 14"/>
          <p:cNvSpPr/>
          <p:nvPr/>
        </p:nvSpPr>
        <p:spPr>
          <a:xfrm>
            <a:off x="179280" y="2637000"/>
            <a:ext cx="88725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HY중고딕"/>
              </a:rPr>
              <a:t>In order to be familiar with latest status and potentiality of upgrading/transplant our experiences in India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262626"/>
                </a:solidFill>
                <a:uFillTx/>
                <a:latin typeface="Arial"/>
                <a:ea typeface="HY중고딕"/>
              </a:rPr>
              <a:t>JSA has decided to send delegation to Bangladesh during 17-20 April 2019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HY중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874188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正方形/長方形 9"/>
          <p:cNvSpPr/>
          <p:nvPr/>
        </p:nvSpPr>
        <p:spPr>
          <a:xfrm>
            <a:off x="0" y="0"/>
            <a:ext cx="9144000" cy="1044720"/>
          </a:xfrm>
          <a:prstGeom prst="rect">
            <a:avLst/>
          </a:prstGeom>
          <a:gradFill rotWithShape="0">
            <a:gsLst>
              <a:gs pos="0">
                <a:srgbClr val="9dc3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" name="Picture 2" descr="jsa"/>
          <p:cNvPicPr/>
          <p:nvPr/>
        </p:nvPicPr>
        <p:blipFill>
          <a:blip r:embed="rId1"/>
          <a:stretch/>
        </p:blipFill>
        <p:spPr>
          <a:xfrm>
            <a:off x="8024760" y="22320"/>
            <a:ext cx="1027080" cy="561960"/>
          </a:xfrm>
          <a:prstGeom prst="rect">
            <a:avLst/>
          </a:prstGeom>
          <a:ln w="0">
            <a:noFill/>
          </a:ln>
        </p:spPr>
      </p:pic>
      <p:sp>
        <p:nvSpPr>
          <p:cNvPr id="191" name="コンテンツ プレースホルダー 2"/>
          <p:cNvSpPr/>
          <p:nvPr/>
        </p:nvSpPr>
        <p:spPr>
          <a:xfrm>
            <a:off x="147600" y="65160"/>
            <a:ext cx="8223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India on 14-18 January 2019 –Reaffirmed steady ste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ar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being take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for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enactmen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of HKC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游ゴシック"/>
              </a:rPr>
              <a:t>soon!!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正方形/長方形 12"/>
          <p:cNvSpPr/>
          <p:nvPr/>
        </p:nvSpPr>
        <p:spPr>
          <a:xfrm>
            <a:off x="611280" y="1343160"/>
            <a:ext cx="24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A/JSA meeting in Mumba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3" name="図 5" descr="\\192.168.1.11\共有\6.海務部\海務部(海工務)\4-1. シップリサイクル\インド関係\JSAインド訪問\201901インド訪問\201901インド写真\20190114_INSA\IMG_4461.JPG"/>
          <p:cNvPicPr/>
          <p:nvPr/>
        </p:nvPicPr>
        <p:blipFill>
          <a:blip r:embed="rId2"/>
          <a:srcRect l="4331" t="25332" r="0" b="890"/>
          <a:stretch/>
        </p:blipFill>
        <p:spPr>
          <a:xfrm>
            <a:off x="611280" y="1655640"/>
            <a:ext cx="3477960" cy="2013120"/>
          </a:xfrm>
          <a:prstGeom prst="rect">
            <a:avLst/>
          </a:prstGeom>
          <a:ln w="0">
            <a:noFill/>
          </a:ln>
        </p:spPr>
      </p:pic>
      <p:pic>
        <p:nvPicPr>
          <p:cNvPr id="194" name="図 6" descr=""/>
          <p:cNvPicPr/>
          <p:nvPr/>
        </p:nvPicPr>
        <p:blipFill>
          <a:blip r:embed="rId3"/>
          <a:srcRect l="4672" t="8720" r="5561" b="4709"/>
          <a:stretch/>
        </p:blipFill>
        <p:spPr>
          <a:xfrm>
            <a:off x="4427640" y="1620720"/>
            <a:ext cx="3740040" cy="21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正方形/長方形 9"/>
          <p:cNvSpPr/>
          <p:nvPr/>
        </p:nvSpPr>
        <p:spPr>
          <a:xfrm>
            <a:off x="4427640" y="1343160"/>
            <a:ext cx="24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press reports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6" name="図 7" descr="\\192.168.1.11\共有\6.海務部\海務部(海工務)\4-1. シップリサイクル\インド関係\JSAインド訪問\201901インド訪問\201901インド写真\20190115_日印フォーラム\IMG_4481.JPG"/>
          <p:cNvPicPr/>
          <p:nvPr/>
        </p:nvPicPr>
        <p:blipFill>
          <a:blip r:embed="rId4"/>
          <a:srcRect l="54515" t="7657" r="-231" b="9065"/>
          <a:stretch/>
        </p:blipFill>
        <p:spPr>
          <a:xfrm>
            <a:off x="2147760" y="3767040"/>
            <a:ext cx="2111400" cy="2963880"/>
          </a:xfrm>
          <a:prstGeom prst="rect">
            <a:avLst/>
          </a:prstGeom>
          <a:ln w="0">
            <a:noFill/>
          </a:ln>
        </p:spPr>
      </p:pic>
      <p:sp>
        <p:nvSpPr>
          <p:cNvPr id="197" name="正方形/長方形 11"/>
          <p:cNvSpPr/>
          <p:nvPr/>
        </p:nvSpPr>
        <p:spPr>
          <a:xfrm>
            <a:off x="4427640" y="6237360"/>
            <a:ext cx="31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-India Shipping Policy Forum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874188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E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9:09:22Z</dcterms:created>
  <dc:creator>Daijiro Mizushima/jsa</dc:creator>
  <dc:description/>
  <dc:language>en-US</dc:language>
  <cp:lastModifiedBy>Kazushi Omori/JSA</cp:lastModifiedBy>
  <cp:lastPrinted>2019-03-10T10:19:26Z</cp:lastPrinted>
  <dcterms:modified xsi:type="dcterms:W3CDTF">2019-03-13T00:50:03Z</dcterms:modified>
  <cp:revision>945</cp:revision>
  <dc:subject/>
  <dc:title>JSA Count Report</dc:title>
</cp:coreProperties>
</file>